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The rat and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1595520"/>
            <a:ext cx="3990960" cy="380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96000" y="1655640"/>
            <a:ext cx="441612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5040" y="374292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284c"/>
                </a:solidFill>
                <a:latin typeface="Arial"/>
              </a:rPr>
              <a:t>By Joel J., Daniel A. &amp; Fernando R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25640" y="3792600"/>
            <a:ext cx="7686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NUTRITION FUNCTION OF PALM T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9880" y="22316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form the photosynthesi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Respir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absorb oxygen through the stomata to get energy by the                mitochondri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Substance distribu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distribute the phloem sap throughout the plan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liminating waste matter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keep the waste substances in old leaves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23ff23"/>
                </a:solidFill>
                <a:latin typeface="Arial"/>
              </a:rPr>
              <a:t>Intera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move towards the sun to obtain solar energy. They move very slowly. This is a nastic movement called photonas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also perform tropism. For example, the roots grow towards the earth using geotrop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280" y="5040360"/>
            <a:ext cx="8928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27280" y="936720"/>
            <a:ext cx="288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c5000b"/>
                </a:solidFill>
                <a:latin typeface="Arial"/>
              </a:rPr>
              <a:t>Reproduction function of the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palm tre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reproduce through polle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640" y="3095640"/>
            <a:ext cx="864072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onclus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Rats and palm trees are living things and they perform the three vital fun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It is more evident when animals are performing the 3 vital functions than when plants ar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Outlin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1. Cell typ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2. Nutri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3. Interaction function of the rat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4. Reproduction function of the ra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5. Nutri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6. Intera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7. Reproduction function of the palm tre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8. Conclusion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Cell typ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0120" y="216036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has animal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palm tree has plant eukaryotic cell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08360" y="3168720"/>
            <a:ext cx="468000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168720"/>
            <a:ext cx="403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000" y="4608360"/>
            <a:ext cx="71276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NUTRITION FUNCTION OF 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Nutri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22204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Obtaining nutrient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y obtain nutrients with a mouth with teeth and tongue.</a:t>
            </a: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omplex digestive tra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Breathing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take oxygen from the air by the lung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Circulation and excre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have a closed circulatory system with a heart. They use the kidneys and the anu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1" lang="es-ES" sz="4400" spc="-1" strike="noStrike">
                <a:solidFill>
                  <a:srgbClr val="47b8b8"/>
                </a:solidFill>
                <a:latin typeface="Arial"/>
              </a:rPr>
              <a:t>NUTRITION FUNCTION OF 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91280" y="216000"/>
            <a:ext cx="28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Intera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9880" y="2101680"/>
            <a:ext cx="84186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Interaction  with the environment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 goes to the rubbish in search of food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erception of inform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y perceive the information by the eyes, ears, mouth, nose and sk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Processing and coordination: 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When they perceive information, it´s carried 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rough the nerves to the brai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8240" indent="-4276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s-ES" sz="3200" spc="-1" strike="noStrike">
                <a:solidFill>
                  <a:srgbClr val="333333"/>
                </a:solidFill>
                <a:latin typeface="Arial"/>
              </a:rPr>
              <a:t>Execution of responses:</a:t>
            </a: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 The information is carried on to the muscles to produce reactions.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666600"/>
                </a:solidFill>
                <a:latin typeface="Arial"/>
              </a:rPr>
              <a:t>REPRODUCTION FUNCTION OF PALM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s-ES" sz="4000" spc="-1" strike="noStrike">
                <a:solidFill>
                  <a:srgbClr val="99284c"/>
                </a:solidFill>
                <a:latin typeface="Arial"/>
              </a:rPr>
              <a:t>Reproduction function of the r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87128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rats have a sexual reproduc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Arial"/>
              </a:rPr>
              <a:t>The sperm enters in the ovul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86407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9:59:00Z</dcterms:created>
  <dc:creator/>
  <dc:description>Presentación general de una novedad considerando los deseos de los clientes</dc:description>
  <dc:language>en-US</dc:language>
  <cp:lastModifiedBy/>
  <dcterms:modified xsi:type="dcterms:W3CDTF">2012-11-25T11:26:27Z</dcterms:modified>
  <cp:revision>4</cp:revision>
  <dc:subject/>
  <dc:title>Presentación de una novedad</dc:title>
</cp:coreProperties>
</file>