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4.png" ContentType="image/png"/>
  <Override PartName="/ppt/media/image46.png" ContentType="image/png"/>
  <Override PartName="/ppt/media/image50.png" ContentType="image/png"/>
  <Override PartName="/ppt/media/image37.jpeg" ContentType="image/jpeg"/>
  <Override PartName="/ppt/media/image13.png" ContentType="image/png"/>
  <Override PartName="/ppt/media/image51.png" ContentType="image/png"/>
  <Override PartName="/ppt/media/image42.jpeg" ContentType="image/jpeg"/>
  <Override PartName="/ppt/media/image57.jpeg" ContentType="image/jpeg"/>
  <Override PartName="/ppt/media/image43.png" ContentType="image/png"/>
  <Override PartName="/ppt/media/image45.jpeg" ContentType="image/jpeg"/>
  <Override PartName="/ppt/media/image55.png" ContentType="image/png"/>
  <Override PartName="/ppt/media/image52.jpeg" ContentType="image/jpeg"/>
  <Override PartName="/ppt/media/image48.jpeg" ContentType="image/jpeg"/>
  <Override PartName="/ppt/media/image53.png" ContentType="image/png"/>
  <Override PartName="/ppt/media/image54.png" ContentType="image/png"/>
  <Override PartName="/ppt/media/image56.png" ContentType="image/png"/>
  <Override PartName="/ppt/media/image41.png" ContentType="image/png"/>
  <Override PartName="/ppt/media/image31.png" ContentType="image/png"/>
  <Override PartName="/ppt/media/image30.jpeg" ContentType="image/jpeg"/>
  <Override PartName="/ppt/media/image9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939-EEA5-4116-8DD7-4EF2D263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0A6-2662-40C9-ACAB-EDD58C08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AE9-8AFC-4064-B3B1-A477678F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95E0-249C-4382-8338-E88BB5B5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2060-4800-414D-9992-F48F6590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323-9676-4B4F-920A-07E238E1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FBF-583B-4DFE-8847-C6EDB239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099-AEBA-4E76-9600-DFFC8DFA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84A-413A-407E-BE69-A37E53C0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16F-D7E9-4DFF-B31A-A864A045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E04C-0EED-4E4C-9C35-2BA19B4A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D7DB-3F59-4389-8A58-204049D4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E84A-68D0-4F44-AF9D-BE45D163A99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jpe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jpe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jpe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1151531-colorful-autumnal-landscape-with-deciduous-forest-and-many-fallen-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92000" y="5013000"/>
            <a:ext cx="687204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By : Joel Jara C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116000" y="692280"/>
            <a:ext cx="77040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DECIDUOUS FOREST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4140360" y="494172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nd Irina Khodanit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4360" y="189000"/>
            <a:ext cx="4608360" cy="172728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1 Título"/>
          <p:cNvGrpSpPr/>
          <p:nvPr/>
        </p:nvGrpSpPr>
        <p:grpSpPr>
          <a:xfrm>
            <a:off x="-55440" y="-96840"/>
            <a:ext cx="2560680" cy="1114560"/>
            <a:chOff x="-55440" y="-96840"/>
            <a:chExt cx="2560680" cy="1114560"/>
          </a:xfrm>
        </p:grpSpPr>
        <p:pic>
          <p:nvPicPr>
            <p:cNvPr id="140" name="1 Título" descr=""/>
            <p:cNvPicPr/>
            <p:nvPr/>
          </p:nvPicPr>
          <p:blipFill>
            <a:blip r:embed="rId1"/>
            <a:stretch/>
          </p:blipFill>
          <p:spPr>
            <a:xfrm>
              <a:off x="-55440" y="-96840"/>
              <a:ext cx="25606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0"/>
              <a:ext cx="24480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600" spc="-1" strike="noStrike">
                  <a:solidFill>
                    <a:srgbClr val="ffffff"/>
                  </a:solidFill>
                  <a:latin typeface="Calibri"/>
                </a:rPr>
                <a:t>Eastern Chipmunk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1 Título"/>
          <p:cNvSpPr/>
          <p:nvPr/>
        </p:nvSpPr>
        <p:spPr>
          <a:xfrm>
            <a:off x="-252360" y="7174080"/>
            <a:ext cx="9144000" cy="685800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www.blueplanetbiomes.org/images/Chipmunk3.jpg"/>
          <p:cNvPicPr/>
          <p:nvPr/>
        </p:nvPicPr>
        <p:blipFill>
          <a:blip r:embed="rId2"/>
          <a:stretch/>
        </p:blipFill>
        <p:spPr>
          <a:xfrm>
            <a:off x="179280" y="907920"/>
            <a:ext cx="2301840" cy="1570320"/>
          </a:xfrm>
          <a:prstGeom prst="rect">
            <a:avLst/>
          </a:prstGeom>
          <a:ln w="0">
            <a:noFill/>
          </a:ln>
        </p:spPr>
      </p:pic>
      <p:grpSp>
        <p:nvGrpSpPr>
          <p:cNvPr id="144" name="6 Rectángulo"/>
          <p:cNvGrpSpPr/>
          <p:nvPr/>
        </p:nvGrpSpPr>
        <p:grpSpPr>
          <a:xfrm>
            <a:off x="-103320" y="2359080"/>
            <a:ext cx="2638440" cy="871560"/>
            <a:chOff x="-103320" y="2359080"/>
            <a:chExt cx="2638440" cy="871560"/>
          </a:xfrm>
        </p:grpSpPr>
        <p:pic>
          <p:nvPicPr>
            <p:cNvPr id="145" name="6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2359080"/>
              <a:ext cx="2638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2421000"/>
              <a:ext cx="24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Tamia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tria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4" descr="http://www.blueplanetbiomes.org/images/euro_red_squirrel.jpg"/>
          <p:cNvPicPr/>
          <p:nvPr/>
        </p:nvPicPr>
        <p:blipFill>
          <a:blip r:embed="rId4"/>
          <a:stretch/>
        </p:blipFill>
        <p:spPr>
          <a:xfrm>
            <a:off x="6372360" y="4724280"/>
            <a:ext cx="24145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48" name="8 Rectángulo"/>
          <p:cNvGrpSpPr/>
          <p:nvPr/>
        </p:nvGrpSpPr>
        <p:grpSpPr>
          <a:xfrm>
            <a:off x="6053040" y="6248520"/>
            <a:ext cx="2882880" cy="596880"/>
            <a:chOff x="6053040" y="6248520"/>
            <a:chExt cx="2882880" cy="596880"/>
          </a:xfrm>
        </p:grpSpPr>
        <p:pic>
          <p:nvPicPr>
            <p:cNvPr id="149" name="8 Rectángulo" descr=""/>
            <p:cNvPicPr/>
            <p:nvPr/>
          </p:nvPicPr>
          <p:blipFill>
            <a:blip r:embed="rId5"/>
            <a:stretch/>
          </p:blipFill>
          <p:spPr>
            <a:xfrm>
              <a:off x="6053040" y="6248520"/>
              <a:ext cx="2882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156360" y="6308640"/>
              <a:ext cx="272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European Red Squirr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9 Rectángulo"/>
          <p:cNvGrpSpPr/>
          <p:nvPr/>
        </p:nvGrpSpPr>
        <p:grpSpPr>
          <a:xfrm>
            <a:off x="4541760" y="4522680"/>
            <a:ext cx="2224080" cy="871560"/>
            <a:chOff x="4541760" y="4522680"/>
            <a:chExt cx="2224080" cy="871560"/>
          </a:xfrm>
        </p:grpSpPr>
        <p:pic>
          <p:nvPicPr>
            <p:cNvPr id="152" name="9 Rectángulo" descr=""/>
            <p:cNvPicPr/>
            <p:nvPr/>
          </p:nvPicPr>
          <p:blipFill>
            <a:blip r:embed="rId6"/>
            <a:stretch/>
          </p:blipFill>
          <p:spPr>
            <a:xfrm>
              <a:off x="4541760" y="4522680"/>
              <a:ext cx="2224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43280" y="45813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ciur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 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vulgar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6" descr="http://www.blueplanetbiomes.org/images/fat_dormouse.jpg"/>
          <p:cNvPicPr/>
          <p:nvPr/>
        </p:nvPicPr>
        <p:blipFill>
          <a:blip r:embed="rId7"/>
          <a:stretch/>
        </p:blipFill>
        <p:spPr>
          <a:xfrm>
            <a:off x="6804000" y="1989000"/>
            <a:ext cx="1924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155" name="11 Rectángulo"/>
          <p:cNvGrpSpPr/>
          <p:nvPr/>
        </p:nvGrpSpPr>
        <p:grpSpPr>
          <a:xfrm>
            <a:off x="6845400" y="2000160"/>
            <a:ext cx="1701720" cy="596880"/>
            <a:chOff x="6845400" y="2000160"/>
            <a:chExt cx="1701720" cy="596880"/>
          </a:xfrm>
        </p:grpSpPr>
        <p:pic>
          <p:nvPicPr>
            <p:cNvPr id="156" name="11 Rectángulo" descr=""/>
            <p:cNvPicPr/>
            <p:nvPr/>
          </p:nvPicPr>
          <p:blipFill>
            <a:blip r:embed="rId8"/>
            <a:stretch/>
          </p:blipFill>
          <p:spPr>
            <a:xfrm>
              <a:off x="6845400" y="2000160"/>
              <a:ext cx="17017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952680" y="2060640"/>
              <a:ext cx="149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Fat Dormo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12 Rectángulo"/>
          <p:cNvGrpSpPr/>
          <p:nvPr/>
        </p:nvGrpSpPr>
        <p:grpSpPr>
          <a:xfrm>
            <a:off x="4973760" y="1925640"/>
            <a:ext cx="1884240" cy="2249640"/>
            <a:chOff x="4973760" y="1925640"/>
            <a:chExt cx="1884240" cy="2249640"/>
          </a:xfrm>
        </p:grpSpPr>
        <p:pic>
          <p:nvPicPr>
            <p:cNvPr id="159" name="12 Rectángulo" descr=""/>
            <p:cNvPicPr/>
            <p:nvPr/>
          </p:nvPicPr>
          <p:blipFill>
            <a:blip r:embed="rId9"/>
            <a:stretch/>
          </p:blipFill>
          <p:spPr>
            <a:xfrm>
              <a:off x="4973760" y="1925640"/>
              <a:ext cx="1884240" cy="22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076720" y="1989000"/>
              <a:ext cx="1727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mon Names: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dible Dormouse, Squirrel-tailed Dormo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Myox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g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10" descr="http://www.blueplanetbiomes.org/images/least_weasel.jpg"/>
          <p:cNvPicPr/>
          <p:nvPr/>
        </p:nvPicPr>
        <p:blipFill>
          <a:blip r:embed="rId10"/>
          <a:stretch/>
        </p:blipFill>
        <p:spPr>
          <a:xfrm>
            <a:off x="0" y="4927680"/>
            <a:ext cx="2592360" cy="1930320"/>
          </a:xfrm>
          <a:prstGeom prst="rect">
            <a:avLst/>
          </a:prstGeom>
          <a:ln w="0">
            <a:noFill/>
          </a:ln>
        </p:spPr>
      </p:pic>
      <p:grpSp>
        <p:nvGrpSpPr>
          <p:cNvPr id="162" name="15 Rectángulo"/>
          <p:cNvGrpSpPr/>
          <p:nvPr/>
        </p:nvGrpSpPr>
        <p:grpSpPr>
          <a:xfrm>
            <a:off x="-115920" y="4664160"/>
            <a:ext cx="2077920" cy="815760"/>
            <a:chOff x="-115920" y="4664160"/>
            <a:chExt cx="2077920" cy="815760"/>
          </a:xfrm>
        </p:grpSpPr>
        <p:pic>
          <p:nvPicPr>
            <p:cNvPr id="163" name="15 Rectángulo" descr=""/>
            <p:cNvPicPr/>
            <p:nvPr/>
          </p:nvPicPr>
          <p:blipFill>
            <a:blip r:embed="rId11"/>
            <a:stretch/>
          </p:blipFill>
          <p:spPr>
            <a:xfrm>
              <a:off x="-115920" y="4664160"/>
              <a:ext cx="207792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4724280"/>
              <a:ext cx="19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Least Weas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16 Rectángulo"/>
          <p:cNvGrpSpPr/>
          <p:nvPr/>
        </p:nvGrpSpPr>
        <p:grpSpPr>
          <a:xfrm>
            <a:off x="1951200" y="6151680"/>
            <a:ext cx="2170080" cy="871560"/>
            <a:chOff x="1951200" y="6151680"/>
            <a:chExt cx="2170080" cy="871560"/>
          </a:xfrm>
        </p:grpSpPr>
        <p:pic>
          <p:nvPicPr>
            <p:cNvPr id="166" name="16 Rectángulo" descr=""/>
            <p:cNvPicPr/>
            <p:nvPr/>
          </p:nvPicPr>
          <p:blipFill>
            <a:blip r:embed="rId12"/>
            <a:stretch/>
          </p:blipFill>
          <p:spPr>
            <a:xfrm>
              <a:off x="1951200" y="6151680"/>
              <a:ext cx="2170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050920" y="6211800"/>
              <a:ext cx="20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Mustela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niva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12" descr="http://www.blueplanetbiomes.org/images/deers.jpg"/>
          <p:cNvPicPr/>
          <p:nvPr/>
        </p:nvPicPr>
        <p:blipFill>
          <a:blip r:embed="rId13"/>
          <a:stretch/>
        </p:blipFill>
        <p:spPr>
          <a:xfrm>
            <a:off x="2843280" y="4005360"/>
            <a:ext cx="1371600" cy="2038320"/>
          </a:xfrm>
          <a:prstGeom prst="rect">
            <a:avLst/>
          </a:prstGeom>
          <a:ln w="0">
            <a:noFill/>
          </a:ln>
        </p:spPr>
      </p:pic>
      <p:grpSp>
        <p:nvGrpSpPr>
          <p:cNvPr id="169" name="18 Rectángulo"/>
          <p:cNvGrpSpPr/>
          <p:nvPr/>
        </p:nvGrpSpPr>
        <p:grpSpPr>
          <a:xfrm>
            <a:off x="2451240" y="3730680"/>
            <a:ext cx="2047680" cy="596880"/>
            <a:chOff x="2451240" y="3730680"/>
            <a:chExt cx="2047680" cy="596880"/>
          </a:xfrm>
        </p:grpSpPr>
        <p:pic>
          <p:nvPicPr>
            <p:cNvPr id="170" name="18 Rectángulo" descr=""/>
            <p:cNvPicPr/>
            <p:nvPr/>
          </p:nvPicPr>
          <p:blipFill>
            <a:blip r:embed="rId14"/>
            <a:stretch/>
          </p:blipFill>
          <p:spPr>
            <a:xfrm>
              <a:off x="2451240" y="3730680"/>
              <a:ext cx="20476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565000" y="378936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White-tailed De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19 Rectángulo"/>
          <p:cNvGrpSpPr/>
          <p:nvPr/>
        </p:nvGrpSpPr>
        <p:grpSpPr>
          <a:xfrm>
            <a:off x="2523960" y="1139760"/>
            <a:ext cx="2024280" cy="2792520"/>
            <a:chOff x="2523960" y="1139760"/>
            <a:chExt cx="2024280" cy="2792520"/>
          </a:xfrm>
        </p:grpSpPr>
        <p:pic>
          <p:nvPicPr>
            <p:cNvPr id="173" name="19 Rectángulo" descr=""/>
            <p:cNvPicPr/>
            <p:nvPr/>
          </p:nvPicPr>
          <p:blipFill>
            <a:blip r:embed="rId15"/>
            <a:stretch/>
          </p:blipFill>
          <p:spPr>
            <a:xfrm>
              <a:off x="2523960" y="1139760"/>
              <a:ext cx="202428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627280" y="1197000"/>
              <a:ext cx="18367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Common Nam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 white-tailed deer, Key deer, jumping deer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docoile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prstDash val="dash"/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OOD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704000" cy="5300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http://www-markinfo.slu.se/sve/veg/trslag/bilder/bjork5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32523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2 Marcador de contenido"/>
          <p:cNvGrpSpPr/>
          <p:nvPr/>
        </p:nvGrpSpPr>
        <p:grpSpPr>
          <a:xfrm>
            <a:off x="281160" y="1450800"/>
            <a:ext cx="8472240" cy="2524320"/>
            <a:chOff x="281160" y="1450800"/>
            <a:chExt cx="8472240" cy="2524320"/>
          </a:xfrm>
        </p:grpSpPr>
        <p:pic>
          <p:nvPicPr>
            <p:cNvPr id="180" name="2 Marcador de contenido" descr=""/>
            <p:cNvPicPr/>
            <p:nvPr/>
          </p:nvPicPr>
          <p:blipFill>
            <a:blip r:embed="rId2"/>
            <a:stretch/>
          </p:blipFill>
          <p:spPr>
            <a:xfrm>
              <a:off x="281160" y="1450800"/>
              <a:ext cx="8472240" cy="25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68360" y="1557360"/>
              <a:ext cx="822960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Deciduous forest are forest with a many diverse flora and faun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It has a typical temperate zone´s wather and precipitatio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blueplanetbiomes.org/deciduous_animal_page.htm</a:t>
            </a:r>
            <a:br>
              <a:rPr sz="2000"/>
            </a:b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marietta.edu/~biol/biomes/tempded.htm</a:t>
            </a:r>
            <a:br>
              <a:rPr sz="2000"/>
            </a:br>
            <a:r>
              <a:rPr b="0" lang="en-US" sz="2000" spc="-1" strike="noStrike" u="sng">
                <a:solidFill>
                  <a:srgbClr val="ff0066"/>
                </a:solidFill>
                <a:uFillTx/>
                <a:latin typeface="inherit"/>
              </a:rPr>
              <a:t>ths.sps.lane.edu/biomes/deciduous3/deciduous3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5621400" cy="93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2.bp.blogspot.com/-lPSGJEhnF4o/UNNKbMPhZPI/AAAAAAAABho/bbuPKoZLIaA/s1600/the-end-old-movi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wrhf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TRODUCTION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224000" y="2523960"/>
            <a:ext cx="669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We are going to talk about deciduous forests bio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alibri"/>
              </a:rPr>
              <a:t>A biome is a biological community which has some characteristic climatic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http://t3.gstatic.com/images?q=tbn:ANd9GcRuGxsKEtzOcTZXz4YrG-XmMWX9MOW83bR9uVWyar5EvSgTl5N0d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26920" y="1988640"/>
            <a:ext cx="6400800" cy="4032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* Deciduous forest is temperate zone´s bi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18 Rectángulo" descr=""/>
          <p:cNvPicPr/>
          <p:nvPr/>
        </p:nvPicPr>
        <p:blipFill>
          <a:blip r:embed="rId2"/>
          <a:stretch/>
        </p:blipFill>
        <p:spPr>
          <a:xfrm>
            <a:off x="665280" y="396720"/>
            <a:ext cx="7497720" cy="157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brockmann-consult.de/iavisa-info-web/images/fallback-climate-zone-classification.gif"/>
          <p:cNvPicPr/>
          <p:nvPr/>
        </p:nvPicPr>
        <p:blipFill>
          <a:blip r:embed="rId3"/>
          <a:stretch/>
        </p:blipFill>
        <p:spPr>
          <a:xfrm>
            <a:off x="1619280" y="3141720"/>
            <a:ext cx="4886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61128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OCATION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7" descr="deciduous_location_map001"/>
          <p:cNvPicPr/>
          <p:nvPr/>
        </p:nvPicPr>
        <p:blipFill>
          <a:blip r:embed="rId1"/>
          <a:stretch/>
        </p:blipFill>
        <p:spPr>
          <a:xfrm>
            <a:off x="826920" y="1916280"/>
            <a:ext cx="7236000" cy="4406760"/>
          </a:xfrm>
          <a:prstGeom prst="rect">
            <a:avLst/>
          </a:prstGeom>
          <a:ln w="0">
            <a:noFill/>
          </a:ln>
        </p:spPr>
      </p:pic>
      <p:sp>
        <p:nvSpPr>
          <p:cNvPr id="54" name="Line 10"/>
          <p:cNvSpPr/>
          <p:nvPr/>
        </p:nvSpPr>
        <p:spPr>
          <a:xfrm flipV="1">
            <a:off x="1476360" y="4292640"/>
            <a:ext cx="934920" cy="93672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24000" y="530064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4356000" y="2133720"/>
            <a:ext cx="360360" cy="151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780000" y="170028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Western Eur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H="1">
            <a:off x="5076360" y="2205000"/>
            <a:ext cx="863640" cy="1368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796000" y="1916280"/>
            <a:ext cx="12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us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 flipH="1">
            <a:off x="7308360" y="5445000"/>
            <a:ext cx="576360" cy="71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7956720" y="5373720"/>
            <a:ext cx="1187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H="1">
            <a:off x="6804000" y="3789360"/>
            <a:ext cx="9367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7812000" y="3573360"/>
            <a:ext cx="1081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H="1" flipV="1">
            <a:off x="7093080" y="4076280"/>
            <a:ext cx="79200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7885080" y="4365720"/>
            <a:ext cx="125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Jap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e are four seas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hot seasons temperature incr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during the cold months it decreases, this affects the atmospheric condi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LIMATIC CONDITIONES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Picture 7" descr="Changing_of_seasons"/>
          <p:cNvPicPr/>
          <p:nvPr/>
        </p:nvPicPr>
        <p:blipFill>
          <a:blip r:embed="rId1"/>
          <a:stretch/>
        </p:blipFill>
        <p:spPr>
          <a:xfrm>
            <a:off x="1403280" y="3573360"/>
            <a:ext cx="6697800" cy="3284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ctangle 3"/>
          <p:cNvGrpSpPr/>
          <p:nvPr/>
        </p:nvGrpSpPr>
        <p:grpSpPr>
          <a:xfrm>
            <a:off x="353880" y="1444680"/>
            <a:ext cx="4157640" cy="2425680"/>
            <a:chOff x="353880" y="1444680"/>
            <a:chExt cx="4157640" cy="2425680"/>
          </a:xfrm>
        </p:grpSpPr>
        <p:pic>
          <p:nvPicPr>
            <p:cNvPr id="70" name="Rectangle 3" descr=""/>
            <p:cNvPicPr/>
            <p:nvPr/>
          </p:nvPicPr>
          <p:blipFill>
            <a:blip r:embed="rId1"/>
            <a:stretch/>
          </p:blipFill>
          <p:spPr>
            <a:xfrm>
              <a:off x="353880" y="1444680"/>
              <a:ext cx="415764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7200" y="1501920"/>
              <a:ext cx="38988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alibri"/>
                </a:rPr>
                <a:t>TEMPERATURE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50 degrees Fahrenhei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summer the temperature can reach 70ºF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winter temperatures are a little below of freezing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WordArt 5"/>
          <p:cNvSpPr txBox="1"/>
          <p:nvPr/>
        </p:nvSpPr>
        <p:spPr>
          <a:xfrm>
            <a:off x="457200" y="189000"/>
            <a:ext cx="822960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                     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4716360" y="1494000"/>
            <a:ext cx="4195800" cy="229536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4862520" y="1625760"/>
            <a:ext cx="3903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ECIPI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verage 30 to 60 inches pea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summer there is a lot of precipi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winter no , and leaves of the trees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1763640" y="3916440"/>
            <a:ext cx="5200560" cy="2925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3"/>
          <a:stretch/>
        </p:blipFill>
        <p:spPr>
          <a:xfrm>
            <a:off x="365040" y="189000"/>
            <a:ext cx="8302680" cy="1305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3" descr=""/>
          <p:cNvPicPr/>
          <p:nvPr/>
        </p:nvPicPr>
        <p:blipFill>
          <a:blip r:embed="rId1"/>
          <a:stretch/>
        </p:blipFill>
        <p:spPr>
          <a:xfrm>
            <a:off x="536400" y="-171360"/>
            <a:ext cx="3249720" cy="14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5813280" y="1082520"/>
            <a:ext cx="3006720" cy="2221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5416560" y="0"/>
            <a:ext cx="3510000" cy="923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813280" y="138240"/>
            <a:ext cx="26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Dutchman´s Breeches (Dicentra Cucullari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2546280" y="1189080"/>
            <a:ext cx="2643120" cy="2008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7"/>
          <p:cNvSpPr/>
          <p:nvPr/>
        </p:nvSpPr>
        <p:spPr>
          <a:xfrm>
            <a:off x="2320920" y="3328920"/>
            <a:ext cx="2868480" cy="708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2357280" y="339084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Sassafras (Sassafras albidu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1258920" y="4335480"/>
            <a:ext cx="3384360" cy="1962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5"/>
          <p:cNvSpPr/>
          <p:nvPr/>
        </p:nvSpPr>
        <p:spPr>
          <a:xfrm>
            <a:off x="1468440" y="6370560"/>
            <a:ext cx="3216240" cy="37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7"/>
          <p:cNvSpPr/>
          <p:nvPr/>
        </p:nvSpPr>
        <p:spPr>
          <a:xfrm>
            <a:off x="1446120" y="6375240"/>
            <a:ext cx="31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American be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5"/>
          <a:stretch/>
        </p:blipFill>
        <p:spPr>
          <a:xfrm>
            <a:off x="138240" y="1189080"/>
            <a:ext cx="1979640" cy="19447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8"/>
          <p:cNvSpPr/>
          <p:nvPr/>
        </p:nvSpPr>
        <p:spPr>
          <a:xfrm>
            <a:off x="138240" y="3303720"/>
            <a:ext cx="1979640" cy="733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9"/>
          <p:cNvSpPr/>
          <p:nvPr/>
        </p:nvSpPr>
        <p:spPr>
          <a:xfrm>
            <a:off x="250920" y="3303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Common l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2527"/>
          <p:cNvSpPr/>
          <p:nvPr/>
        </p:nvSpPr>
        <p:spPr>
          <a:xfrm>
            <a:off x="5508720" y="6021360"/>
            <a:ext cx="3311280" cy="727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528"/>
          <p:cNvSpPr/>
          <p:nvPr/>
        </p:nvSpPr>
        <p:spPr>
          <a:xfrm>
            <a:off x="6080040" y="6031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Redbud ( Cersis Canaden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6"/>
          <a:stretch/>
        </p:blipFill>
        <p:spPr>
          <a:xfrm>
            <a:off x="5676840" y="3714840"/>
            <a:ext cx="3038400" cy="1998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3" descr=""/>
          <p:cNvPicPr/>
          <p:nvPr/>
        </p:nvPicPr>
        <p:blipFill>
          <a:blip r:embed="rId1"/>
          <a:stretch/>
        </p:blipFill>
        <p:spPr>
          <a:xfrm>
            <a:off x="5510160" y="-171360"/>
            <a:ext cx="3822840" cy="145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597040" y="1316160"/>
            <a:ext cx="2664000" cy="19987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2827440" y="671400"/>
            <a:ext cx="2254320" cy="503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2792520" y="738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Guelder r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6127920" y="1181160"/>
            <a:ext cx="2776320" cy="20797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2"/>
          <p:cNvSpPr/>
          <p:nvPr/>
        </p:nvSpPr>
        <p:spPr>
          <a:xfrm>
            <a:off x="6167520" y="3314880"/>
            <a:ext cx="26892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6195960" y="33498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Northern Arrowwoo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4"/>
          <a:stretch/>
        </p:blipFill>
        <p:spPr>
          <a:xfrm>
            <a:off x="1066680" y="4503600"/>
            <a:ext cx="2619360" cy="17528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5"/>
          <p:cNvSpPr/>
          <p:nvPr/>
        </p:nvSpPr>
        <p:spPr>
          <a:xfrm>
            <a:off x="1476360" y="6350040"/>
            <a:ext cx="1800360" cy="3697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1619280" y="636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sp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5"/>
          <a:stretch/>
        </p:blipFill>
        <p:spPr>
          <a:xfrm>
            <a:off x="4932360" y="3871800"/>
            <a:ext cx="3887640" cy="23846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8"/>
          <p:cNvSpPr/>
          <p:nvPr/>
        </p:nvSpPr>
        <p:spPr>
          <a:xfrm>
            <a:off x="4932360" y="6362640"/>
            <a:ext cx="2550960" cy="3603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4952880" y="635004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rch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6"/>
          <a:stretch/>
        </p:blipFill>
        <p:spPr>
          <a:xfrm>
            <a:off x="281160" y="923760"/>
            <a:ext cx="2095200" cy="3467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1"/>
          <p:cNvSpPr/>
          <p:nvPr/>
        </p:nvSpPr>
        <p:spPr>
          <a:xfrm>
            <a:off x="139680" y="189000"/>
            <a:ext cx="2376360" cy="5745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281160" y="33336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Magno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4930920" cy="1557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84807"/>
                </a:solidFill>
                <a:latin typeface="Calibri"/>
              </a:rPr>
              <a:t>FAUNA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2 Subtítulo"/>
          <p:cNvGrpSpPr/>
          <p:nvPr/>
        </p:nvGrpSpPr>
        <p:grpSpPr>
          <a:xfrm>
            <a:off x="5383080" y="6108840"/>
            <a:ext cx="3206880" cy="693720"/>
            <a:chOff x="5383080" y="6108840"/>
            <a:chExt cx="3206880" cy="693720"/>
          </a:xfrm>
        </p:grpSpPr>
        <p:pic>
          <p:nvPicPr>
            <p:cNvPr id="111" name="2 Subtítulo" descr=""/>
            <p:cNvPicPr/>
            <p:nvPr/>
          </p:nvPicPr>
          <p:blipFill>
            <a:blip r:embed="rId1"/>
            <a:stretch/>
          </p:blipFill>
          <p:spPr>
            <a:xfrm>
              <a:off x="5383080" y="6108840"/>
              <a:ext cx="320688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435640" y="6237360"/>
              <a:ext cx="3097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898989"/>
                  </a:solidFill>
                  <a:latin typeface="Calibri"/>
                </a:rPr>
                <a:t>   </a:t>
              </a: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rican Black Bea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2" descr="http://www.blueplanetbiomes.org/images/bald_eagle.jpg"/>
          <p:cNvPicPr/>
          <p:nvPr/>
        </p:nvPicPr>
        <p:blipFill>
          <a:blip r:embed="rId2"/>
          <a:stretch/>
        </p:blipFill>
        <p:spPr>
          <a:xfrm>
            <a:off x="0" y="2492280"/>
            <a:ext cx="22017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14" name="5 Rectángulo"/>
          <p:cNvGrpSpPr/>
          <p:nvPr/>
        </p:nvGrpSpPr>
        <p:grpSpPr>
          <a:xfrm>
            <a:off x="-103320" y="5168880"/>
            <a:ext cx="2352960" cy="598680"/>
            <a:chOff x="-103320" y="5168880"/>
            <a:chExt cx="2352960" cy="598680"/>
          </a:xfrm>
        </p:grpSpPr>
        <p:pic>
          <p:nvPicPr>
            <p:cNvPr id="115" name="5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5168880"/>
              <a:ext cx="235296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5229360"/>
              <a:ext cx="21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American Bald Ea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6 Rectángulo"/>
          <p:cNvGrpSpPr/>
          <p:nvPr/>
        </p:nvGrpSpPr>
        <p:grpSpPr>
          <a:xfrm>
            <a:off x="-103320" y="1500120"/>
            <a:ext cx="2352960" cy="1146240"/>
            <a:chOff x="-103320" y="1500120"/>
            <a:chExt cx="2352960" cy="1146240"/>
          </a:xfrm>
        </p:grpSpPr>
        <p:pic>
          <p:nvPicPr>
            <p:cNvPr id="118" name="6 Rectángulo" descr=""/>
            <p:cNvPicPr/>
            <p:nvPr/>
          </p:nvPicPr>
          <p:blipFill>
            <a:blip r:embed="rId4"/>
            <a:stretch/>
          </p:blipFill>
          <p:spPr>
            <a:xfrm>
              <a:off x="-103320" y="1500120"/>
              <a:ext cx="2352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1557360"/>
              <a:ext cx="219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Haliaeet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leucocephal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4" descr="http://www.blueplanetbiomes.org/images/blackbear.jpg"/>
          <p:cNvPicPr/>
          <p:nvPr/>
        </p:nvPicPr>
        <p:blipFill>
          <a:blip r:embed="rId5"/>
          <a:stretch/>
        </p:blipFill>
        <p:spPr>
          <a:xfrm>
            <a:off x="5580000" y="3871800"/>
            <a:ext cx="2808360" cy="237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8 Rectángulo"/>
          <p:cNvGrpSpPr/>
          <p:nvPr/>
        </p:nvGrpSpPr>
        <p:grpSpPr>
          <a:xfrm>
            <a:off x="5334120" y="3151080"/>
            <a:ext cx="3255840" cy="871560"/>
            <a:chOff x="5334120" y="3151080"/>
            <a:chExt cx="3255840" cy="871560"/>
          </a:xfrm>
        </p:grpSpPr>
        <p:pic>
          <p:nvPicPr>
            <p:cNvPr id="122" name="8 Rectángulo" descr=""/>
            <p:cNvPicPr/>
            <p:nvPr/>
          </p:nvPicPr>
          <p:blipFill>
            <a:blip r:embed="rId6"/>
            <a:stretch/>
          </p:blipFill>
          <p:spPr>
            <a:xfrm>
              <a:off x="5334120" y="3151080"/>
              <a:ext cx="3255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435640" y="321300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Urs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americ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6" descr="http://www.blueplanetbiomes.org/images/coyote_in_grass.jpg"/>
          <p:cNvPicPr/>
          <p:nvPr/>
        </p:nvPicPr>
        <p:blipFill>
          <a:blip r:embed="rId7"/>
          <a:stretch/>
        </p:blipFill>
        <p:spPr>
          <a:xfrm>
            <a:off x="2484360" y="3716280"/>
            <a:ext cx="2632320" cy="2532240"/>
          </a:xfrm>
          <a:prstGeom prst="rect">
            <a:avLst/>
          </a:prstGeom>
          <a:ln w="0">
            <a:noFill/>
          </a:ln>
        </p:spPr>
      </p:pic>
      <p:grpSp>
        <p:nvGrpSpPr>
          <p:cNvPr id="125" name="10 Rectángulo"/>
          <p:cNvGrpSpPr/>
          <p:nvPr/>
        </p:nvGrpSpPr>
        <p:grpSpPr>
          <a:xfrm>
            <a:off x="2523960" y="5095800"/>
            <a:ext cx="1097280" cy="598680"/>
            <a:chOff x="2523960" y="5095800"/>
            <a:chExt cx="1097280" cy="598680"/>
          </a:xfrm>
        </p:grpSpPr>
        <p:pic>
          <p:nvPicPr>
            <p:cNvPr id="126" name="10 Rectángulo" descr=""/>
            <p:cNvPicPr/>
            <p:nvPr/>
          </p:nvPicPr>
          <p:blipFill>
            <a:blip r:embed="rId8"/>
            <a:stretch/>
          </p:blipFill>
          <p:spPr>
            <a:xfrm>
              <a:off x="2523960" y="5095800"/>
              <a:ext cx="109728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627280" y="51577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Coy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Rectángulo"/>
          <p:cNvGrpSpPr/>
          <p:nvPr/>
        </p:nvGrpSpPr>
        <p:grpSpPr>
          <a:xfrm>
            <a:off x="2523960" y="3224160"/>
            <a:ext cx="2517840" cy="871560"/>
            <a:chOff x="2523960" y="3224160"/>
            <a:chExt cx="2517840" cy="871560"/>
          </a:xfrm>
        </p:grpSpPr>
        <p:pic>
          <p:nvPicPr>
            <p:cNvPr id="129" name="11 Rectángulo" descr=""/>
            <p:cNvPicPr/>
            <p:nvPr/>
          </p:nvPicPr>
          <p:blipFill>
            <a:blip r:embed="rId9"/>
            <a:stretch/>
          </p:blipFill>
          <p:spPr>
            <a:xfrm>
              <a:off x="2523960" y="3224160"/>
              <a:ext cx="2517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627280" y="3284640"/>
              <a:ext cx="235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Cani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latr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12 Rectángulo"/>
          <p:cNvGrpSpPr/>
          <p:nvPr/>
        </p:nvGrpSpPr>
        <p:grpSpPr>
          <a:xfrm>
            <a:off x="6553080" y="201600"/>
            <a:ext cx="1994040" cy="596880"/>
            <a:chOff x="6553080" y="201600"/>
            <a:chExt cx="1994040" cy="596880"/>
          </a:xfrm>
        </p:grpSpPr>
        <p:pic>
          <p:nvPicPr>
            <p:cNvPr id="132" name="12 Rectángulo" descr=""/>
            <p:cNvPicPr/>
            <p:nvPr/>
          </p:nvPicPr>
          <p:blipFill>
            <a:blip r:embed="rId10"/>
            <a:stretch/>
          </p:blipFill>
          <p:spPr>
            <a:xfrm>
              <a:off x="6553080" y="201600"/>
              <a:ext cx="1994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70080" y="260280"/>
              <a:ext cx="175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Duckbill Platy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8" descr="http://www.blueplanetbiomes.org/images/platypus1.jpg"/>
          <p:cNvPicPr/>
          <p:nvPr/>
        </p:nvPicPr>
        <p:blipFill>
          <a:blip r:embed="rId11"/>
          <a:stretch/>
        </p:blipFill>
        <p:spPr>
          <a:xfrm>
            <a:off x="7093080" y="620640"/>
            <a:ext cx="18478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35" name="14 Rectángulo"/>
          <p:cNvGrpSpPr/>
          <p:nvPr/>
        </p:nvGrpSpPr>
        <p:grpSpPr>
          <a:xfrm>
            <a:off x="4614840" y="1785960"/>
            <a:ext cx="3254400" cy="871560"/>
            <a:chOff x="4614840" y="1785960"/>
            <a:chExt cx="3254400" cy="871560"/>
          </a:xfrm>
        </p:grpSpPr>
        <p:pic>
          <p:nvPicPr>
            <p:cNvPr id="136" name="14 Rectángulo" descr=""/>
            <p:cNvPicPr/>
            <p:nvPr/>
          </p:nvPicPr>
          <p:blipFill>
            <a:blip r:embed="rId12"/>
            <a:stretch/>
          </p:blipFill>
          <p:spPr>
            <a:xfrm>
              <a:off x="4614840" y="1785960"/>
              <a:ext cx="32544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716360" y="1844640"/>
              <a:ext cx="30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rnithorhynch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anati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8:16:29Z</dcterms:created>
  <dc:creator>JOEL</dc:creator>
  <dc:description/>
  <dc:language>en-US</dc:language>
  <cp:lastModifiedBy>Windows</cp:lastModifiedBy>
  <dcterms:modified xsi:type="dcterms:W3CDTF">2013-02-27T16:18:42Z</dcterms:modified>
  <cp:revision>45</cp:revision>
  <dc:subject/>
  <dc:title>FAUNA</dc:title>
</cp:coreProperties>
</file>