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C70-6998-423C-8FFA-08A93231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4DF-9FBA-4286-823D-28FEE7A7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BA8-29C8-4B41-B0A3-00D73348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A1D-4A6A-4E8A-82D8-5C3B5FEF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980-6C8C-4813-B9B8-17851CEC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9D66-98C4-4679-BF2E-74216335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E8C7-112D-4F50-9F05-60B1C3B9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B8EC-93B1-4ECF-87F1-7C6C1C72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2123-DCAF-4E63-A931-C9DA2017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9B81-E284-4E09-A10C-F1DF2FF0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1F8A-E6BD-4407-8AFE-AFA6D2C0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BB4-36BD-4144-AD76-DA16B315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B78A-6A80-42E0-BB37-2F01B4B8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6A34-AE7A-4529-AF52-B6593CF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030F-94FC-46FE-91A3-B6926131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3954-2065-47BA-93A5-BC7D8AF6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410B-D1C3-4D6D-80C5-23894353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7D89-237B-4D55-8763-9A32EF8E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EAB0-8E45-4E9E-ACE4-71F787FF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9D69-6B19-4D8B-8F2C-5EA7DBF0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14D8D-22E8-4329-A259-754B1C4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555C-9241-4495-9D38-41D55689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3C9-8A66-4617-9DAF-C466A546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5CDF-E561-4142-979A-A0FBC52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267E-AA31-4BF9-8DCE-CFEE54D7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3F03-9F0D-4358-9F73-C9BCAAA0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8EB9-0F51-4C5A-B62E-877FB7C2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66EB-7F04-4743-BD3D-5EA32F2E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29B1-E3AF-47C7-A1D8-F6A0778E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02E8-996D-4BC9-8C12-AF985036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888B-AAEB-4A6D-B2F1-68A8EDAC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3732-8BF3-40C7-B537-624BED77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08F8-6F2D-45DB-804D-C2C1DB81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277-1496-4DE8-BEF4-8F838D7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AAE24-8F1E-43AC-907B-DB06455E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1F5CD-0B91-4309-A243-F1B204C1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AA9F9-DDE2-472A-9090-19957807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DB9B9-45E1-43E1-9BBC-24E16C89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9F0F-BD30-4256-A994-FBABE2A0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30DE-2B13-4589-BAC0-79810C1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1B2C-B0A1-4714-ABD9-301B2F9D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3B6A-D1F2-4227-8B10-0334A758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9C1E-8EBB-4528-8B1B-A164D523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D080-6A23-4FE5-9EC9-6B6E97FE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3E7-3573-4EAE-B622-79C7F7B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4997-368D-4141-BBB0-D49854B9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0CA4D-65D4-433C-AD39-53461490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13DE-923F-4C70-8349-A49561ED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562B3-2C4B-4762-B908-1B952B15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6AF3A-BB85-44EA-9476-165A093A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112EC-36DE-4C5C-B9CC-7AB5722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DDEC6-0164-40EC-B4DC-58AF12F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1A052-AEC7-4E48-A1B3-E33F911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0768D-F294-4AEF-A960-87507D75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AE26D-0E34-4A87-BC7E-0E508438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128-5841-499F-91C3-7B9768FE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DA3CC-328E-4AFF-8A99-D7C0CA35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B60B9-9CA5-4EB4-ABB7-2C8203FC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69596-6283-4F7E-8B5A-E7FEE8B8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D3D8A-D4DE-47F2-B7BE-430EB3E5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11F26-380D-4CF1-A01C-CB4DA2FE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8207-4CB8-4955-A9F3-CB84BBFD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F2DB7-4255-4AE3-876D-896E288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4D962-BBC4-4387-A59A-7ACDEEF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AC8A1-EAA8-4F7C-9BDC-37BA16BB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62556-A693-4BBC-994C-C64F021C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74C-AC5F-4400-A61A-4F65A43C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0639D-83C2-4483-8E25-5FE08975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248D0-B8BA-43FD-B51E-8F6807FB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5A61C-EA25-4C3C-9C94-9AED0DA6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E9A2-27E5-4982-8DD3-0DADC782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DA430-A60F-4FD4-BDEC-9F1B2683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BAD84-C20B-40F0-B332-4078D910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90544-C5DD-485E-90A9-37FD96AD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8706F-DAAD-4C15-90BD-366DDE80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A119E-307C-4AF8-B649-296D017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A8174-7065-4AA8-A1AC-401AAF8C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C99-665E-447A-920B-388249A6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832A7-552F-4D7F-87B8-D3662A7C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4A334-AB3F-42BE-8F90-C9788B78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5D301-F8F5-4E91-B860-9F908417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0726A-55FA-4D1B-8DDD-8AC99A9C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6268-D12F-476F-A8B3-9540A0F9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8E17C-1286-4E09-A2A5-9068D568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CF494-71CE-4978-9EC4-05789415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510AE-48E5-4241-A418-4C83E670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0595A-4C06-4B14-87FB-7E8BC5F7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F87FB-A7EF-4509-8363-3048A362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A81-082A-40B3-93FC-24A7FAB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EB16A-9098-4605-B1DF-F9EE220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B6719-D331-47AD-BCBB-E7D6830E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37998-3BD4-46CA-8938-B9D3CD7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23ABD-5E53-4E2A-9D67-6D73D995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ABCD6-7E0E-4FBC-8580-FF88A53C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6C0C6-6EB3-42F0-BF17-1279C353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0A1D0-9A03-40E9-AFDF-F549DA8D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1E83-E3B5-4834-93B5-9AB0EBE992A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D71A-D8A5-4B9F-ADFE-671F09EBEC9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C439-B589-49F6-90A8-086B38201E5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97B2-0B3B-46D2-B2A3-8E4D4D70804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76A0-D4DE-461C-A8FC-561D5F0D6D4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C3D1-F197-4C89-9F7C-A1638F96C1D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B970-7715-4E32-91BD-709A573E307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4263-999F-4EAF-8D00-CBE410C8C708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spiky malaysian plant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C:\Users\Windows\Downloads\spiky_malaysian_plants_32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Spiky malaysian plant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20720" y="66600"/>
            <a:ext cx="5542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9800" y="30240"/>
            <a:ext cx="820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54025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700280" y="165240"/>
            <a:ext cx="5310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:\Users\Windows\Downloads\275971-green-and-spiky-plants-of-the-cordyline-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Spiky malaysian plant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35280" y="139680"/>
            <a:ext cx="5400720" cy="1566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C:\Users\Windows\Downloads\14285768-spiky-green-succulent-plant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C:\Users\Windows\Downloads\14310593-spiky-agave-plant-in-los-angeles-califor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Spiky malaysian plant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20760" y="225360"/>
            <a:ext cx="49024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Windows</cp:lastModifiedBy>
  <dcterms:modified xsi:type="dcterms:W3CDTF">2012-12-12T19:56:19Z</dcterms:modified>
  <cp:revision>26</cp:revision>
  <dc:subject/>
  <dc:title>Diapositiva 1</dc:title>
</cp:coreProperties>
</file>