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F5F-9E05-4F5D-B17E-7104A650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34B-63AA-4EDC-A029-22B734A4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DF9-7658-4F2F-8170-7CD42D8D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663-F6CD-4835-BFBB-1FAF696A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E2ED-5E61-4A48-8077-8A37E334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D4EF-3CED-40AF-AFEA-76DDCF2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CD1F-B5FA-48FE-9E66-6B76CFFF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2EE5-045A-4BAA-8663-86A69830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088-570B-463B-98C1-BB2A2A47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6370-4E61-4CB3-B32A-9279E19D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6D87-E2A2-445B-AB4B-2D66540F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81A-D775-4FA2-8C72-4BBFCBF7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C4A9-8891-48D1-BE4D-DE91656C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6459-8674-44CA-B823-D9C9CBD1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4228-0FF0-4BFC-A455-60B02C98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5941-C2BC-4F6E-A321-3A9E11A7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7F0F-C8E6-4BF3-9EF6-E752BE79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6F19E-52C9-418C-8C4D-04548C3A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4F52-25B1-480D-B082-CD91CE9F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4ABF6-9430-47A2-A312-066879F5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817F-E5B4-463E-9985-C6DDB3ED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947ED-C337-4826-BDAF-9B505CAB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123-2F87-49F6-A543-4AE59359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E0F3C-37BC-4CB9-96C1-03B26A47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91E3-91E5-4A47-B684-66E41608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DAB9-12FC-47E7-9E5C-96D2606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FBCB-AF58-4BC2-AC75-36B0A31D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CAF9-329C-4CF4-A810-5722A9EE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A283-DE45-4373-9168-C55931B4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4018-B798-4AB4-B041-6AB30AA2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4006B-0E59-4E4F-A2E2-B66D1E44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A834D-8CB8-4296-A943-D3D7619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473B-1015-4761-B70E-7F6A3E25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C52-BC6A-4D8C-AFE8-ADD64FA3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40E9-08A8-46C5-8AE4-2CC2708C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13AB-B792-4184-B5A3-2666237F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F7569-D79F-4B23-A931-4645EA9A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8DD2-A58A-4C44-8EE3-50E7C648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3D5D3-69DB-4C51-AF26-AAAFF001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74CFC-B5BA-44A8-BF6D-EAFDD9D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FB922-9A22-4476-801F-A9646DB2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2B54-97E1-4351-A34F-C31C61D7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BC3F-4424-4BAF-8EBE-EAB043C2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5AF3-E186-4D58-9A28-83744C5E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74D-E386-46A4-BD13-574070CE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E9C7A-34AD-473B-ABA3-3D598052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B7C3-3079-4693-B5F9-BABF3369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18ACD-535E-492C-94F0-5C029F02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6C843-9B8F-4E6F-86F6-BF606509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F987-4E3E-43D8-827E-9E4D8A14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52173-6159-41FC-BE0A-685CB884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ACA7A-0655-47D4-8F74-9602FE87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1813-C19A-48EB-AAE7-FC7D21F2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4F0FA-A4C1-4CFF-BCCB-4273981D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D562F-2B0B-4C1D-99F5-D1711773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242-FBD9-49C9-A804-3F0FF78B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4278F-9333-44AC-A5B0-1BA251BF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98003-608C-4FDE-8A40-F510163B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FC37-06C4-419C-9754-E382D0EF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7FB03-57ED-4F50-AAEA-A10FCCAF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C8D0C-F435-43DE-AA65-38B4A4E5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69CE-9463-4885-B561-79CA46A9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A60E-48A3-4E80-8CF0-9739D5D8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A475-4D0B-4E65-85AA-4F20DDF6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E69D-7E31-49B9-9E27-9605F7B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4451F-9193-4F31-B2E7-CBB31740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679-8A68-46BF-9269-3C506F53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BDA6B-86C4-448B-8D56-ECAB8398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441C1-1C4F-417D-B032-8AA2D022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14FE-DAA3-4D51-B503-28762F8E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3E5DA-6D11-4E67-A3E6-3496CC1A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1CA3C-5D1F-4EFE-8A91-C893EA77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9D2F9-00E9-4DB3-9526-6448BEE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228F-EDE1-408A-AB63-739A883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86DB4-F578-477F-BC2E-70ECC9F7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73320-277C-4587-82AE-0B8CFF31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75AD5-8CA8-438C-8466-34D98AD9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DC6-70E0-4238-B8DA-B86161D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8CC3-24F1-4C6C-8E41-0A6D626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02BD-61FF-41A7-9480-28361EFE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0B747-33F0-42F8-BBCC-D72C388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9189-4B49-4630-B2F0-7221992D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64DCA-1FFA-4B9B-B230-90AA1290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AA19B-64B0-4309-A88F-72E478B6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607D0-0656-4496-B8F4-A36031E3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A7DF7-0E43-4417-81F3-6818E224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F8636-5856-48A5-AA42-599FEB5E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778E-74CF-428C-A764-BF1510EE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627-909B-4E42-8629-0524CF1E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24978-12C8-47B3-9D4A-1EE39D37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9C13F-77D8-4174-97C1-FD3197F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BFA2-4AA8-498C-9CB9-F8D256B0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A5208-63B6-48AA-BC84-5E370072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85404-A04B-4E33-A805-C3D0D297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E5239-C762-4F86-8C73-1FCF125E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2BAC0-A8F4-44B5-B3BC-7B3E556B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A50-970C-4D22-B828-19123DF422E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994B-B286-4F5D-8AF4-012907BD2E1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4EFA-E324-4BE7-A59E-D7153D6330A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97BE-2084-4998-B689-79148AD1337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2383-2A49-43C8-AAF7-E6B48463725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0DE6-CE19-47BE-A2D2-7E955A1C903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A8F-8B78-4A04-8767-0CF483571FD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FB6C-A6AB-4C2C-A130-D3738ECC503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3" descr="3d3ca4_dromedario1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marihuana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507672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Lucida Sans Unicode"/>
              </a:rPr>
              <a:t>By Héctor, Irina and Rubé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8120" y="499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468360" y="2205000"/>
            <a:ext cx="835164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irst term project: The three vital functions of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omedary and spiky malaysian plant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C:\Users\Windows\Downloads\spiky_malaysian_plants_324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Spiky malaysian plant is most commonly reproduced sexually because of the seeds that fall into the ground and grow with rain water. It doesn’t use pollen to reprodu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78600" y="-374112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1" name="6 Rectángulo" descr=""/>
          <p:cNvPicPr/>
          <p:nvPr/>
        </p:nvPicPr>
        <p:blipFill>
          <a:blip r:embed="rId2"/>
          <a:stretch/>
        </p:blipFill>
        <p:spPr>
          <a:xfrm>
            <a:off x="1620720" y="66600"/>
            <a:ext cx="55422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http://2.bp.blogspot.com/-wO0_jcPdxi8/T_OVUfsMkZI/AAAAAAAAAV8/MkcjP1JC03I/s1600/thats+all+folks.gif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4 CuadroTexto"/>
          <p:cNvSpPr/>
          <p:nvPr/>
        </p:nvSpPr>
        <p:spPr>
          <a:xfrm rot="20794800">
            <a:off x="610920" y="549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3a276"/>
                </a:solidFill>
                <a:latin typeface="Eras Bold ITC"/>
              </a:rPr>
              <a:t>Héctor Peribáñ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5 CuadroTexto"/>
          <p:cNvSpPr/>
          <p:nvPr/>
        </p:nvSpPr>
        <p:spPr>
          <a:xfrm rot="1119000">
            <a:off x="5829480" y="127332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Eras Bold ITC"/>
              </a:rPr>
              <a:t>Rubén M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6 CuadroTexto"/>
          <p:cNvSpPr/>
          <p:nvPr/>
        </p:nvSpPr>
        <p:spPr>
          <a:xfrm>
            <a:off x="298764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Eras Bold ITC"/>
              </a:rPr>
              <a:t>Irina Khodanis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00"/>
                </a:solidFill>
                <a:latin typeface="Lucida Sans Unicode"/>
              </a:rPr>
              <a:t>The dromedary has eukaryotic cells and animal cells.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WordArt 10"/>
          <p:cNvSpPr txBox="1"/>
          <p:nvPr/>
        </p:nvSpPr>
        <p:spPr>
          <a:xfrm>
            <a:off x="53964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Type of cel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5867280" y="508464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3" descr="eucell1"/>
          <p:cNvPicPr/>
          <p:nvPr/>
        </p:nvPicPr>
        <p:blipFill>
          <a:blip r:embed="rId2"/>
          <a:stretch/>
        </p:blipFill>
        <p:spPr>
          <a:xfrm>
            <a:off x="6227640" y="460692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00"/>
                </a:solidFill>
                <a:latin typeface="Lucida Sans Unicode"/>
              </a:rPr>
              <a:t>Obtaining nutrie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Food is crushed by the teeth.The molecules are broken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Nutrients are absorbed and carried to the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ffff00"/>
                </a:solidFill>
                <a:latin typeface="Lucida Sans Unicode"/>
              </a:rPr>
              <a:t>The rest of the food is eliminated (excretio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rebuchet MS"/>
              </a:rPr>
              <a:t>Nutri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rebuchet MS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Breathing: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take oxygen from the air by lung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Circula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ey are complex animals. Blood interchanges substances between the cells. The vessels and the heart thanks contraction and dilatio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Excretion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 u="sng">
                <a:solidFill>
                  <a:srgbClr val="0070c0"/>
                </a:solidFill>
                <a:uFillTx/>
                <a:latin typeface="Lucida Sans Unicode"/>
              </a:rPr>
              <a:t>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Through exchange surfaces (kidneys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47560" indent="-4111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70c0"/>
                </a:solidFill>
                <a:uFillTx/>
                <a:latin typeface="Lucida Sans Unicode"/>
              </a:rPr>
              <a:t>    </a:t>
            </a:r>
            <a:r>
              <a:rPr b="0" lang="es-ES_tradnl" sz="2500" spc="-1" strike="noStrike">
                <a:solidFill>
                  <a:srgbClr val="0070c0"/>
                </a:solidFill>
                <a:latin typeface="Lucida Sans Unicode"/>
              </a:rPr>
              <a:t>Kidneys filters the blood extracts the waste and produce urin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6" name="6 Rectángulo" descr=""/>
          <p:cNvPicPr/>
          <p:nvPr/>
        </p:nvPicPr>
        <p:blipFill>
          <a:blip r:embed="rId3"/>
          <a:stretch/>
        </p:blipFill>
        <p:spPr>
          <a:xfrm>
            <a:off x="469800" y="30240"/>
            <a:ext cx="82044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It receives information through stimuli by the receptors for each type of stimulus. For capturing light, photoreceptors; for detecting heat thermoreceptors. Mechanoreceptors for detectimg senstive vibrations and forces and chemoreceptors: detectors of substa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All the whole organisms carry out the response because the cells are capable of responding to stimuli individu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92d050"/>
                </a:solidFill>
                <a:latin typeface="Lucida Sans Unicode"/>
              </a:rPr>
              <a:t>Made by the effect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96080" y="-36828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0" name="5 Rectángulo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540252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romedary-camels-in-egypt-cairo-egypt+1152_12850582452-tpfil02aw-24933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e type of reproduction is: sexual reprodu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This means that they need a male and a   female to have a baby. It consists i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Gamete form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Fertilis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             </a:t>
            </a: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- Develovement of zygo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3399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90120" y="-417348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4" name="4 Rectángulo" descr=""/>
          <p:cNvPicPr/>
          <p:nvPr/>
        </p:nvPicPr>
        <p:blipFill>
          <a:blip r:embed="rId2"/>
          <a:stretch/>
        </p:blipFill>
        <p:spPr>
          <a:xfrm>
            <a:off x="1700280" y="165240"/>
            <a:ext cx="5310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:\Users\Windows\Downloads\275971-green-and-spiky-plants-of-the-cordyline-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900000" y="1784160"/>
            <a:ext cx="77868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 Rounded MT Bold"/>
              </a:rPr>
              <a:t>Spiky malaysian plant has eukaryotic and plant cells so they perform photosyntesi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640720" y="-373644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5 Rectángulo" descr=""/>
          <p:cNvPicPr/>
          <p:nvPr/>
        </p:nvPicPr>
        <p:blipFill>
          <a:blip r:embed="rId2"/>
          <a:stretch/>
        </p:blipFill>
        <p:spPr>
          <a:xfrm>
            <a:off x="1835280" y="139680"/>
            <a:ext cx="5400720" cy="1566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bio.mq.edu.au/units/biol317/plant%20cell.jpg"/>
          <p:cNvPicPr/>
          <p:nvPr/>
        </p:nvPicPr>
        <p:blipFill>
          <a:blip r:embed="rId3"/>
          <a:stretch/>
        </p:blipFill>
        <p:spPr>
          <a:xfrm>
            <a:off x="539640" y="4076640"/>
            <a:ext cx="35244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C:\Users\Windows\Downloads\14285768-spiky-green-succulent-plant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320" y="1526760"/>
            <a:ext cx="85042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1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ater and minerals salts enters through the   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roots. CO2 enters through stomata and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hotosynthesis takes place in th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chloroplast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2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Plant absorbs oxygen in the mitochondria to 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get energy from the carbohydr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3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ubstances are transported through vessel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which run along de stem and the branch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</a:t>
            </a:r>
            <a:r>
              <a:rPr b="0" lang="es-ES_tradnl" sz="3400" spc="-1" strike="noStrike">
                <a:solidFill>
                  <a:srgbClr val="ff3300"/>
                </a:solidFill>
                <a:latin typeface="Aharoni"/>
                <a:ea typeface="Aharoni"/>
              </a:rPr>
              <a:t>4.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Oxygen from photosynthesis is eliminated through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mata and also the CO2 from the respiration. Cannabi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store waste substances in old leaves and then they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      </a:t>
            </a:r>
            <a:r>
              <a:rPr b="0" lang="es-ES_tradnl" sz="2200" spc="-1" strike="noStrike">
                <a:solidFill>
                  <a:srgbClr val="ff3300"/>
                </a:solidFill>
                <a:latin typeface="Aharoni"/>
                <a:ea typeface="Aharoni"/>
              </a:rPr>
              <a:t>eliminate the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90120" y="-41562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3" name="4 Rectángulo" descr=""/>
          <p:cNvPicPr/>
          <p:nvPr/>
        </p:nvPicPr>
        <p:blipFill>
          <a:blip r:embed="rId2"/>
          <a:stretch/>
        </p:blipFill>
        <p:spPr>
          <a:xfrm>
            <a:off x="1865160" y="-92160"/>
            <a:ext cx="534060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6" descr="C:\Users\Windows\Downloads\14310593-spiky-agave-plant-in-los-angeles-californ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Spiky malaysian plant has a simple perception of information. It practises tropisms like phototropism (grow towards the su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coordinate when they grow towards the sun because is the only movement they prac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0" lang="es-ES_tradnl" sz="2700" spc="-1" strike="noStrike">
                <a:solidFill>
                  <a:srgbClr val="ffff00"/>
                </a:solidFill>
                <a:latin typeface="Lucida Sans Unicode"/>
              </a:rPr>
              <a:t>They react to water growing towards the sun and preforming photosynthes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028000" y="-41043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7" name="5 Rectángulo" descr=""/>
          <p:cNvPicPr/>
          <p:nvPr/>
        </p:nvPicPr>
        <p:blipFill>
          <a:blip r:embed="rId2"/>
          <a:stretch/>
        </p:blipFill>
        <p:spPr>
          <a:xfrm>
            <a:off x="2120760" y="225360"/>
            <a:ext cx="49024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3:45:22Z</dcterms:created>
  <dc:creator>CM</dc:creator>
  <dc:description/>
  <dc:language>en-US</dc:language>
  <cp:lastModifiedBy>Windows</cp:lastModifiedBy>
  <dcterms:modified xsi:type="dcterms:W3CDTF">2012-12-12T19:56:19Z</dcterms:modified>
  <cp:revision>26</cp:revision>
  <dc:subject/>
  <dc:title>Diapositiva 1</dc:title>
</cp:coreProperties>
</file>