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4.png" ContentType="image/png"/>
  <Override PartName="/ppt/media/image10.jpeg" ContentType="image/jpeg"/>
  <Override PartName="/ppt/media/image8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5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EDE5-3EE3-4F5D-8C0F-DC9945770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379C-A5A4-4E4A-8E9E-3E25C8609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8EB3-72CD-4520-8A27-29A7B790C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A686-C029-4D4D-B278-E353F93B6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E5CFB-9FE0-40FB-B371-9C8C19AA4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B199B-8CC6-48DA-8434-4CFC1DA6E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212EB-D6CF-469F-8962-8D6A2FF60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71717-1A8F-471C-879C-EAD9FBFD6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2B7FE-2DD6-463E-B0E8-56FE5CE28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DF49D-0EBE-43D7-8FF7-B9FA5D1A1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2E7F8-40C8-4FC4-943F-61EA998C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D2ED-FF1A-4CA7-BDC2-408E71F6A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8C12B-5701-4F07-A818-546455D0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B4589-9D50-4AF1-BC09-99AFA6EE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590F7-739C-4FEC-9FF2-19FC19B7B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9B4D8-8C3E-4971-99E3-54FA202E3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B0299-2C64-420D-BCE3-DF0EA9D13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9432B-6D81-4244-83A8-25FDACF46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72591-F540-4F26-B7AF-0B0CE7514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D4B71-ECE3-4469-8730-6C07BE31C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D9764-3954-4F9F-82C8-0B0B68180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F3994-B187-4703-AA1B-18C252D77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BE61-7C36-49F4-ADE4-E89ED420E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C8BF6-7F09-4AF4-9DDF-3183534C2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F8343-CDEF-42CB-BEAA-F46627C9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4BBD1-D81E-4EFE-B35E-3B8FA700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3283D-5306-4A06-9F0E-34B6CBB2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E9DED-D0CC-4F2C-96A9-C489F70E1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5BAD3-C8D2-45A2-B81D-36539E30F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F4310-64FF-4761-A615-D9A2EB002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21464-EEA7-41AF-9D94-35FE70E68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B6548-758E-495A-9394-80761A305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9A4DC-8E94-4FDE-A1A1-07CC7D137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94A8-D1CB-423F-9A71-99F6DFD0D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3B14D-1EEF-470F-ACBC-8C6C35F6C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5610D-1576-45D5-953A-699F8F4B0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E6D45-A5BF-41AF-97D6-5CB8C6F00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3511D-3934-462B-B6E2-5C45A53A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8FF83-8742-454D-8062-88FEBFF2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99411-8185-4C40-B938-A0E8A7F2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C059F-386A-4E43-8F1C-81CB885AF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3F5F6-E207-49BC-89DC-6280B6E9E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A36DB-4450-4071-A45A-344CC2DC2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93133-09C7-4DD1-BE52-5280EEA48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21F3-35AB-4919-97EF-6265EBBF5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A3DA1-47D8-4C9F-B70F-D2DF19AA4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B4F5E-3E10-4B83-B0FE-28FF02235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8F099-7A41-4132-BEBA-D6E904819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844FC-9CEA-496B-82FC-81E6BCEC7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77213-A776-4930-9098-54C7F5646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E0D21-9058-47BB-9DC6-E83A5605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4DB41-9520-441C-9A00-9B27A4B8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297FE-E165-4784-A2A3-0D4F345F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9F1C3-F480-421A-960D-5F5E7DCFF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6F48E-A5D3-42F7-BA81-2CA3D6993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72B2-8AF4-41F6-9A50-66587E9EA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67CA4-64B0-4933-BD8F-45469FBA3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39169-E207-41F4-B81B-01882FD07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0A31ED-55BB-4509-A0D9-93D2D3112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AB1AA-9320-4BDA-8F64-63F6D8154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C69F0-07C3-44B8-8E1A-D72AF3B6E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F98F5-A513-4D60-AB13-7E9066EA6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F0CF9-CFAD-4928-8694-1F785FE0F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44521-7DE9-4334-A292-3B6676F1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FA870A-DB37-447D-9A83-9D8A1BF4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64E2F-CA91-493E-8627-FD11180E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6664-A5EC-433A-A580-B3AEF20C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1AA84E-49F4-4DCC-82B7-BBD1B793F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648F8-F06C-4038-B166-9AA7479AE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EF5D4-D093-451B-B3B5-C028D5C77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502C07-72EF-4766-A46F-4924BF0F5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94FBB8-56DF-4C10-97D0-ABAD4E570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21587D-D1B3-4461-B2AB-6F6E5485A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F68858-EB7F-4E14-94A2-878FDA253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5965C-3D85-4BB0-A65B-949A0956F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059A4-A817-461C-8B9F-767D476EE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D892F-6314-4274-8762-1C2639ED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DBDB-A1BF-483E-9C79-F17C910E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47239-B009-450A-BEF3-189F18C8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667132-BCDB-41D5-A7F9-F7E656AD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22A0F1-DB3A-48CD-84F2-437E68F85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33300-8999-4AEC-95E5-DCF609428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92C05A-7E61-4E72-A03C-B59C7AE6A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A3137-DB68-4593-876C-7DB5876C8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A7103D-61C6-4B8A-AD74-901C681CF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64CF3C-1497-45BF-98A3-1EECDC2D5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467BF8-539E-4567-A9F0-4FEA68E16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B93C4F-8699-4F4D-9A24-BA727B5B9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6FE8-1941-4237-B83A-D61288C5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53DD16-4838-4533-85F1-E2891E40C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264796-B25E-44B5-BBD9-5D57664F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F56A44-58D8-4777-AAF4-EE9D5349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D7D69E-BA47-494A-9599-86B6E78D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E759B3-BC76-406D-B5E8-9C55782E1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CD0CC3-281B-4F6B-A4C4-CFF9A36B9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32ACFF-8B3D-4530-9256-4EC3C718E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13 Triángulo rectángulo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14 Conector recto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E32DA-E52A-4445-8B94-4F9E036D1F98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0 Triángulo rectángulo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15 Grupo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16 Forma libre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18 Forma libre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19 Forma libre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19 Forma libre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20 Conector recto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23339-C42B-4AFE-AD19-F7ED3E731EB0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10 Cheurón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15 Cheurón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EB9C7-E8EE-428D-892B-DD891A15BAB0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CFE95-31E4-42F3-8BF6-436EE78D87B0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BC763-9956-43D8-AC46-B37CAF7E7077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DE583-2EEF-45EE-A3CB-EB4BF22B1AB6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6B4DE-EFFB-4343-8016-9C270BAB9C0D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10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15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16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16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18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19 Cheurón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20 Cheurón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C0195-E76D-4E29-AE8A-5D52539BC17E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13" descr="3d3ca4_dromedario1"/>
          <p:cNvPicPr/>
          <p:nvPr/>
        </p:nvPicPr>
        <p:blipFill>
          <a:blip r:embed="rId1"/>
          <a:stretch/>
        </p:blipFill>
        <p:spPr>
          <a:xfrm>
            <a:off x="0" y="0"/>
            <a:ext cx="9144000" cy="36450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1" descr="marihuana"/>
          <p:cNvPicPr/>
          <p:nvPr/>
        </p:nvPicPr>
        <p:blipFill>
          <a:blip r:embed="rId2"/>
          <a:stretch/>
        </p:blipFill>
        <p:spPr>
          <a:xfrm>
            <a:off x="0" y="3213000"/>
            <a:ext cx="9144000" cy="364500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067280" y="6021000"/>
            <a:ext cx="5076720" cy="57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Lucida Sans Unicode"/>
              </a:rPr>
              <a:t>By Héctor, Irina and Rubé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Rectangle 8"/>
          <p:cNvSpPr/>
          <p:nvPr/>
        </p:nvSpPr>
        <p:spPr>
          <a:xfrm>
            <a:off x="1338120" y="4994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WordArt 15"/>
          <p:cNvSpPr txBox="1"/>
          <p:nvPr/>
        </p:nvSpPr>
        <p:spPr>
          <a:xfrm>
            <a:off x="468360" y="2205000"/>
            <a:ext cx="8351640" cy="1800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2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First term project: The three vital functions of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romedary and cannabis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2" descr="http://4.bp.blogspot.com/_xNZtv4xn0yk/TOiRKlK35iI/AAAAAAAAGbw/8BTzno5qEcg/s1600/cannabis_01_bgiu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c767c"/>
                </a:solidFill>
                <a:latin typeface="Lucida Sans Unicode"/>
              </a:rPr>
              <a:t>Cannabis is most commonly reproduced sexually because of the seeds that fall into the ground and grow with rain water. It doesn’t use pollen to reproduc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878600" y="-3741120"/>
            <a:ext cx="46080" cy="10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11" name="6 Rectángulo" descr=""/>
          <p:cNvPicPr/>
          <p:nvPr/>
        </p:nvPicPr>
        <p:blipFill>
          <a:blip r:embed="rId2"/>
          <a:stretch/>
        </p:blipFill>
        <p:spPr>
          <a:xfrm>
            <a:off x="1616040" y="60480"/>
            <a:ext cx="5553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2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" descr="http://2.bp.blogspot.com/-wO0_jcPdxi8/T_OVUfsMkZI/AAAAAAAAAV8/MkcjP1JC03I/s1600/thats+all+folks.gif"/>
          <p:cNvPicPr/>
          <p:nvPr/>
        </p:nvPicPr>
        <p:blipFill>
          <a:blip r:embed="rId1"/>
          <a:stretch/>
        </p:blipFill>
        <p:spPr>
          <a:xfrm>
            <a:off x="-41400" y="0"/>
            <a:ext cx="9185400" cy="6858000"/>
          </a:xfrm>
          <a:prstGeom prst="rect">
            <a:avLst/>
          </a:prstGeom>
          <a:ln w="0">
            <a:noFill/>
          </a:ln>
        </p:spPr>
      </p:pic>
      <p:sp>
        <p:nvSpPr>
          <p:cNvPr id="413" name="4 CuadroTexto"/>
          <p:cNvSpPr/>
          <p:nvPr/>
        </p:nvSpPr>
        <p:spPr>
          <a:xfrm rot="20794800">
            <a:off x="610920" y="54936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3a276"/>
                </a:solidFill>
                <a:latin typeface="Eras Bold ITC"/>
              </a:rPr>
              <a:t>Héctor Peribáñe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5 CuadroTexto"/>
          <p:cNvSpPr/>
          <p:nvPr/>
        </p:nvSpPr>
        <p:spPr>
          <a:xfrm rot="1119000">
            <a:off x="5829480" y="1273320"/>
            <a:ext cx="257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Eras Bold ITC"/>
              </a:rPr>
              <a:t>Rubén M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6 CuadroTexto"/>
          <p:cNvSpPr/>
          <p:nvPr/>
        </p:nvSpPr>
        <p:spPr>
          <a:xfrm>
            <a:off x="2987640" y="544500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99"/>
                </a:solidFill>
                <a:latin typeface="Eras Bold ITC"/>
              </a:rPr>
              <a:t>Irina Khodanist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5" descr="dromedary-camels-in-egypt-cairo-egypt+1152_12850582452-tpfil02aw-24933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00"/>
                </a:solidFill>
                <a:latin typeface="Lucida Sans Unicode"/>
              </a:rPr>
              <a:t>The dromedary has eukaryotic cells and animal cells.</a:t>
            </a:r>
            <a:endParaRPr b="0" lang="en-US" sz="6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WordArt 10"/>
          <p:cNvSpPr txBox="1"/>
          <p:nvPr/>
        </p:nvSpPr>
        <p:spPr>
          <a:xfrm>
            <a:off x="539640" y="33336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Type of cell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378" name="Text Box 11"/>
          <p:cNvSpPr/>
          <p:nvPr/>
        </p:nvSpPr>
        <p:spPr>
          <a:xfrm>
            <a:off x="5867280" y="5084640"/>
            <a:ext cx="244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13" descr="eucell1"/>
          <p:cNvPicPr/>
          <p:nvPr/>
        </p:nvPicPr>
        <p:blipFill>
          <a:blip r:embed="rId2"/>
          <a:stretch/>
        </p:blipFill>
        <p:spPr>
          <a:xfrm>
            <a:off x="6227640" y="4606920"/>
            <a:ext cx="2916360" cy="2251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4" descr="dromedary-camels-in-egypt-cairo-egypt+1152_12850582452-tpfil02aw-24933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00"/>
                </a:solidFill>
                <a:latin typeface="Lucida Sans Unicode"/>
              </a:rPr>
              <a:t>Obtaining nutrient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700" spc="-1" strike="noStrike">
                <a:solidFill>
                  <a:srgbClr val="ffff00"/>
                </a:solidFill>
                <a:latin typeface="Lucida Sans Unicode"/>
              </a:rPr>
              <a:t>Food is crushed by the teeth.The molecules are broken dow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700" spc="-1" strike="noStrike">
                <a:solidFill>
                  <a:srgbClr val="ffff00"/>
                </a:solidFill>
                <a:latin typeface="Lucida Sans Unicode"/>
              </a:rPr>
              <a:t>Nutrients are absorbed and carried to the cell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700" spc="-1" strike="noStrike">
                <a:solidFill>
                  <a:srgbClr val="ffff00"/>
                </a:solidFill>
                <a:latin typeface="Lucida Sans Unicode"/>
              </a:rPr>
              <a:t>The rest of the food is eliminated (excretion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WordArt 6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Trebuchet MS"/>
              </a:rPr>
              <a:t>Nutri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Trebuchet MS"/>
              <a:ea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4" descr="dromedary-camels-in-egypt-cairo-egypt+1152_12850582452-tpfil02aw-24933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 u="sng">
                <a:solidFill>
                  <a:srgbClr val="0070c0"/>
                </a:solidFill>
                <a:uFillTx/>
                <a:latin typeface="Lucida Sans Unicode"/>
              </a:rPr>
              <a:t>Breathing: 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70c0"/>
                </a:solidFill>
                <a:latin typeface="Lucida Sans Unicode"/>
              </a:rPr>
              <a:t>   </a:t>
            </a:r>
            <a:r>
              <a:rPr b="0" lang="es-ES_tradnl" sz="2500" spc="-1" strike="noStrike">
                <a:solidFill>
                  <a:srgbClr val="0070c0"/>
                </a:solidFill>
                <a:latin typeface="Lucida Sans Unicode"/>
              </a:rPr>
              <a:t>They take oxygen from the air by lungs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 u="sng">
                <a:solidFill>
                  <a:srgbClr val="0070c0"/>
                </a:solidFill>
                <a:uFillTx/>
                <a:latin typeface="Lucida Sans Unicode"/>
              </a:rPr>
              <a:t>Circulation: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70c0"/>
                </a:solidFill>
                <a:latin typeface="Lucida Sans Unicode"/>
              </a:rPr>
              <a:t>   </a:t>
            </a:r>
            <a:r>
              <a:rPr b="0" lang="es-ES_tradnl" sz="2500" spc="-1" strike="noStrike">
                <a:solidFill>
                  <a:srgbClr val="0070c0"/>
                </a:solidFill>
                <a:latin typeface="Lucida Sans Unicode"/>
              </a:rPr>
              <a:t>They are complex animals. Blood interchanges substances between the cells. The vessels and the heart thanks contraction and dilation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 u="sng">
                <a:solidFill>
                  <a:srgbClr val="0070c0"/>
                </a:solidFill>
                <a:uFillTx/>
                <a:latin typeface="Lucida Sans Unicode"/>
              </a:rPr>
              <a:t>Excretion: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 u="sng">
                <a:solidFill>
                  <a:srgbClr val="0070c0"/>
                </a:solidFill>
                <a:uFillTx/>
                <a:latin typeface="Lucida Sans Unicode"/>
              </a:rPr>
              <a:t>   </a:t>
            </a:r>
            <a:r>
              <a:rPr b="0" lang="es-ES_tradnl" sz="2500" spc="-1" strike="noStrike">
                <a:solidFill>
                  <a:srgbClr val="0070c0"/>
                </a:solidFill>
                <a:latin typeface="Lucida Sans Unicode"/>
              </a:rPr>
              <a:t>Through exchange surfaces (kidneys)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 u="sng">
                <a:solidFill>
                  <a:srgbClr val="0070c0"/>
                </a:solidFill>
                <a:uFillTx/>
                <a:latin typeface="Lucida Sans Unicode"/>
              </a:rPr>
              <a:t>    </a:t>
            </a:r>
            <a:r>
              <a:rPr b="0" lang="es-ES_tradnl" sz="2500" spc="-1" strike="noStrike">
                <a:solidFill>
                  <a:srgbClr val="0070c0"/>
                </a:solidFill>
                <a:latin typeface="Lucida Sans Unicode"/>
              </a:rPr>
              <a:t>Kidneys filters the blood extracts the waste and produce urine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1 Título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86" name="6 Rectángulo" descr=""/>
          <p:cNvPicPr/>
          <p:nvPr/>
        </p:nvPicPr>
        <p:blipFill>
          <a:blip r:embed="rId3"/>
          <a:stretch/>
        </p:blipFill>
        <p:spPr>
          <a:xfrm>
            <a:off x="463680" y="23760"/>
            <a:ext cx="821664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4" descr="dromedary-camels-in-egypt-cairo-egypt+1152_12850582452-tpfil02aw-24933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92d050"/>
                </a:solidFill>
                <a:latin typeface="Lucida Sans Unicode"/>
              </a:rPr>
              <a:t>It receives information through stimuli by the receptors for each type of stimulus. For capturing light, photoreceptors; for detecting heat thermoreceptors. Mechanoreceptors for detectimg senstive vibrations and forces and chemoreceptors: detectors of substanc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92d050"/>
                </a:solidFill>
                <a:latin typeface="Lucida Sans Unicode"/>
              </a:rPr>
              <a:t>All the whole organisms carry out the response because the cells are capable of responding to stimuli individuall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92d050"/>
                </a:solidFill>
                <a:latin typeface="Lucida Sans Unicode"/>
              </a:rPr>
              <a:t>Made by the effector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696080" y="-3682800"/>
            <a:ext cx="46080" cy="10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90" name="5 Rectángulo" descr=""/>
          <p:cNvPicPr/>
          <p:nvPr/>
        </p:nvPicPr>
        <p:blipFill>
          <a:blip r:embed="rId2"/>
          <a:stretch/>
        </p:blipFill>
        <p:spPr>
          <a:xfrm>
            <a:off x="1542960" y="158760"/>
            <a:ext cx="541188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8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8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8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4" descr="dromedary-camels-in-egypt-cairo-egypt+1152_12850582452-tpfil02aw-24933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The type of reproduction is: sexual reproductio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  </a:t>
            </a: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This means that they need a male and a   female to have a baby. It consists i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                 </a:t>
            </a: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- Gamete forma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                 </a:t>
            </a: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- Fertilisa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                 </a:t>
            </a: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- Develovement of zygot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790120" y="-4173480"/>
            <a:ext cx="46080" cy="10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94" name="4 Rectángulo" descr=""/>
          <p:cNvPicPr/>
          <p:nvPr/>
        </p:nvPicPr>
        <p:blipFill>
          <a:blip r:embed="rId2"/>
          <a:stretch/>
        </p:blipFill>
        <p:spPr>
          <a:xfrm>
            <a:off x="1695600" y="158760"/>
            <a:ext cx="531468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http://4.bp.blogspot.com/_xNZtv4xn0yk/TOiRKlK35iI/AAAAAAAAGbw/8BTzno5qEcg/s1600/cannabis_01_bgiu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 txBox="1"/>
          <p:nvPr/>
        </p:nvSpPr>
        <p:spPr>
          <a:xfrm>
            <a:off x="900000" y="1784160"/>
            <a:ext cx="7786800" cy="22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00"/>
                </a:solidFill>
                <a:latin typeface="Arial Rounded MT Bold"/>
              </a:rPr>
              <a:t>Cannabis has eukaryotic and plant cells so they perform photosyntesis.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640720" y="-3736440"/>
            <a:ext cx="46080" cy="10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98" name="5 Rectángulo" descr=""/>
          <p:cNvPicPr/>
          <p:nvPr/>
        </p:nvPicPr>
        <p:blipFill>
          <a:blip r:embed="rId2"/>
          <a:stretch/>
        </p:blipFill>
        <p:spPr>
          <a:xfrm>
            <a:off x="1828800" y="133200"/>
            <a:ext cx="5413320" cy="11527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4" descr="http://bio.mq.edu.au/units/biol317/plant%20cell.jpg"/>
          <p:cNvPicPr/>
          <p:nvPr/>
        </p:nvPicPr>
        <p:blipFill>
          <a:blip r:embed="rId3"/>
          <a:stretch/>
        </p:blipFill>
        <p:spPr>
          <a:xfrm>
            <a:off x="539640" y="4076640"/>
            <a:ext cx="3524400" cy="25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2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2" descr="http://4.bp.blogspot.com/_xNZtv4xn0yk/TOiRKlK35iI/AAAAAAAAGbw/8BTzno5qEcg/s1600/cannabis_01_bgiu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301320" y="1526760"/>
            <a:ext cx="8504280" cy="507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3300"/>
                </a:solidFill>
                <a:latin typeface="Aharoni"/>
                <a:ea typeface="Aharoni"/>
              </a:rPr>
              <a:t> </a:t>
            </a:r>
            <a:r>
              <a:rPr b="0" lang="es-ES_tradnl" sz="3400" spc="-1" strike="noStrike">
                <a:solidFill>
                  <a:srgbClr val="ff3300"/>
                </a:solidFill>
                <a:latin typeface="Aharoni"/>
                <a:ea typeface="Aharoni"/>
              </a:rPr>
              <a:t>1.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Water and minerals salts enters through the    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    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roots. CO2 enters through stomata and 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    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photosynthesis takes place in the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    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chloroplasts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</a:t>
            </a:r>
            <a:r>
              <a:rPr b="0" lang="es-ES_tradnl" sz="3400" spc="-1" strike="noStrike">
                <a:solidFill>
                  <a:srgbClr val="ff3300"/>
                </a:solidFill>
                <a:latin typeface="Aharoni"/>
                <a:ea typeface="Aharoni"/>
              </a:rPr>
              <a:t>2.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Plant absorbs oxygen in the mitochondria to 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    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get energy from the carbohydrates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ff3300"/>
                </a:solidFill>
                <a:latin typeface="Aharoni"/>
                <a:ea typeface="Aharoni"/>
              </a:rPr>
              <a:t> </a:t>
            </a:r>
            <a:r>
              <a:rPr b="0" lang="es-ES_tradnl" sz="3400" spc="-1" strike="noStrike">
                <a:solidFill>
                  <a:srgbClr val="ff3300"/>
                </a:solidFill>
                <a:latin typeface="Aharoni"/>
                <a:ea typeface="Aharoni"/>
              </a:rPr>
              <a:t>3.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Substances are transported through vessels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     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which run along de stem and the branches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</a:t>
            </a:r>
            <a:r>
              <a:rPr b="0" lang="es-ES_tradnl" sz="3400" spc="-1" strike="noStrike">
                <a:solidFill>
                  <a:srgbClr val="ff3300"/>
                </a:solidFill>
                <a:latin typeface="Aharoni"/>
                <a:ea typeface="Aharoni"/>
              </a:rPr>
              <a:t>4.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Oxygen from photosynthesis is eliminated through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    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stomata and also the CO2 from the respiration. Cannabis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    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store waste substances in old leaves and then they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    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eliminate them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790120" y="-4156200"/>
            <a:ext cx="46080" cy="10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03" name="4 Rectángulo" descr=""/>
          <p:cNvPicPr/>
          <p:nvPr/>
        </p:nvPicPr>
        <p:blipFill>
          <a:blip r:embed="rId2"/>
          <a:stretch/>
        </p:blipFill>
        <p:spPr>
          <a:xfrm>
            <a:off x="1865160" y="-92160"/>
            <a:ext cx="534060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4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4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4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4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4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4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4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4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4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http://4.bp.blogspot.com/_xNZtv4xn0yk/TOiRKlK35iI/AAAAAAAAGbw/8BTzno5qEcg/s1600/cannabis_01_bgiu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ff00"/>
                </a:solidFill>
                <a:latin typeface="Lucida Sans Unicode"/>
              </a:rPr>
              <a:t>Cannabis has a simple perception of information. It practises tropisms like phototropism (grow towards the sun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ff00"/>
                </a:solidFill>
                <a:latin typeface="Lucida Sans Unicode"/>
              </a:rPr>
              <a:t>They coordinate when they grow towards the sun because is the only movement they practis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ff00"/>
                </a:solidFill>
                <a:latin typeface="Lucida Sans Unicode"/>
              </a:rPr>
              <a:t> </a:t>
            </a:r>
            <a:r>
              <a:rPr b="0" lang="es-ES_tradnl" sz="2700" spc="-1" strike="noStrike">
                <a:solidFill>
                  <a:srgbClr val="ffff00"/>
                </a:solidFill>
                <a:latin typeface="Lucida Sans Unicode"/>
              </a:rPr>
              <a:t>They react to water growing towards the sun and preforming photosynthesi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028000" y="-4104360"/>
            <a:ext cx="46080" cy="10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07" name="5 Rectángulo" descr=""/>
          <p:cNvPicPr/>
          <p:nvPr/>
        </p:nvPicPr>
        <p:blipFill>
          <a:blip r:embed="rId2"/>
          <a:stretch/>
        </p:blipFill>
        <p:spPr>
          <a:xfrm>
            <a:off x="2114640" y="225360"/>
            <a:ext cx="491472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0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0T13:45:22Z</dcterms:created>
  <dc:creator>CM</dc:creator>
  <dc:description/>
  <dc:language>en-US</dc:language>
  <cp:lastModifiedBy>Usuario</cp:lastModifiedBy>
  <dcterms:modified xsi:type="dcterms:W3CDTF">2012-11-26T16:41:31Z</dcterms:modified>
  <cp:revision>25</cp:revision>
  <dc:subject/>
  <dc:title>Diapositiva 1</dc:title>
</cp:coreProperties>
</file>