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4.png" ContentType="image/png"/>
  <Override PartName="/ppt/media/image10.jpeg" ContentType="image/jpeg"/>
  <Override PartName="/ppt/media/image8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5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43C2-D954-4BA1-BA8D-F33F77BA9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68C7-92A3-4564-947C-C706E03B7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4B75-8B00-4F2D-9714-9BF0A63B9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4656-0645-4B62-93E8-9AC559719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674F2-E866-45E3-B643-225BC6CB0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37533-C524-4D82-BCFD-F5A193708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13BE1-86F8-4955-8234-B435DFAFF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E6BF1-9CDE-4D0E-A3CC-D63528933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BA82F-F6DF-4487-9050-6C07064D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E1E06-9F4D-413F-A41A-F3403666B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F2DB5-9AB6-4224-9532-C6CCAC60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015D-0A0C-4465-BB3F-E1C157FEC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83F3C-E2BE-4787-920B-E4C8C7A3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15B90-9E82-45EB-B523-B7159301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DA2CB-C49C-41F9-B2FF-879AED9D5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6C00C-4C44-49C0-9039-25F882CB8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6C317-4E61-4C0A-A750-ADE37F2A5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EECF0-2D44-4ED0-8D5D-D9BA32524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9AA63-A28B-4B17-ACE9-3B6152DF8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80847-916C-4C8E-882E-D8A552913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A066C-C500-42CD-9F99-3662BDAAE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42651-A2FC-49A5-A674-7D0F62DF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69AD-B256-4799-A8F6-32A5875AE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89679-35D9-45D1-8E6E-091A4038A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9B136-452F-4BDB-B19E-9CB05C33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7DA65-21C6-4701-B8CB-607437B1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D9AD8-2833-4F8D-91E6-F46700EB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348EF-E5D4-47DE-A1B6-BB383A002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BF0D5-06F4-48E6-B02B-1B8919701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39DD1-8E4D-4477-A91E-CFA4C4040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6E239-8FDE-4948-BE59-521ED1E78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8B2F2-A926-4DD8-84F5-23B971822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A0E68-102E-4EF0-8471-B2EB84D5E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81A6-3E6A-406C-99BD-D80ABC1BD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AC040-25DB-49DC-B0E8-CF71260AE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68C7E-C5E1-498A-8149-A713CDB1A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2D798-2F47-4D7F-B2FE-50059B776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0177A-5A91-495F-85E6-7D9766C0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C621A-FCAB-4A03-96D7-6D9DA23C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8EEB1-7031-45E9-AB21-90B0508C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5D386-20D7-4F44-ABBD-C8C9B5D82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F03AB-38B3-42ED-8DA1-14E88D6B5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9FF8C-B9CC-4CC5-B5A5-9F3BBC57B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6752E-4837-4276-B814-003A3A20E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2ABA-D8AF-485C-8199-7019F0E53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22345-3041-4AE8-BB6A-7E87939E4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C1177-FBB5-4401-95EA-6C3F77075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0F5EE-F558-4593-BD77-D4A2B0D59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9446F-C90F-4EAD-9CD4-FB0FABE72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3956D-1DDD-4C7D-9CB7-E53AF1058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CE684-DD80-4118-9D8D-C51417D3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1FC19-9673-45E2-8B47-779D75F6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F1B94-2C5A-4348-BA91-267885B6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9AA7F-4EFF-425B-A673-16095D676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8AAF1-C1D9-4D01-9008-50DFC439E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03F8-B4A2-4731-920A-262DE2CA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5A8AE-AE42-4D97-B4C9-99542750F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6477B-32DA-498E-BE53-CB970EC22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D99B7-25A3-44FD-8900-23B282C58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A39BBE-6A16-4587-8A97-94BBFF7E2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DF79B-24D5-42F4-81D3-41C864EC6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11F0B-FF24-43FD-A380-B0A9D36D9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5648C-CB52-4723-BAED-6266181EA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A15939-DC34-44D2-B790-F994AF4C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B1595-2FDE-4F36-887B-DAD6C8EB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71911A-7F8A-410D-8321-A8CBA70F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0794-1BF0-4979-A948-A36B5111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76DCD-D836-48C8-8BFB-34123B633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41BC6-33AC-4107-B451-CFB4AD8D3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8545E-3988-44C4-BE0C-CF2CFE1EE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D8CE32-ADC4-4AEC-A9F4-C333EAEE0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1172E-8531-4A94-B2D9-DE13F81D2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30EF2-A7D9-4417-8B5B-D4C9F8582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5A1BB-96D3-46AD-8E38-42FE3A1BD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2BA0A-76AE-475B-ACA2-C6239DF91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823AEB-197B-4B56-8664-51329C273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D01A2A-B8E2-40A5-82B5-495B5B74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6895-1BF3-451D-A7C3-4F24FB31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4B154-825B-4573-914D-F9AAAB3F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B1F9C-622E-43CB-AF27-6DC5F2CD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BC43E-A21B-40A9-B513-CC59B1848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7FFF7-AE76-40E3-8EB6-CDBD41071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C9171-6EF9-459F-8CD1-252B19B66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252166-4170-40CD-A5A4-6F7F6684A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CF0946-3880-41F3-AAE6-69A47AD5F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BC08E3-9C71-4262-922B-B74B52857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BAECF6-95CB-413A-B059-56AA490DA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CEA919-0A44-4B5A-8A01-1FD1915B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1DC4-C9C6-407F-A5EF-9E8BC018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D5BF56-0284-4C45-8A07-77FE5DFEF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376DB8-8A29-4FE6-AB57-65085610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98209E-98B9-4FC0-8BF1-796BD1AD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1F8399-9616-43C6-A0A8-E84A97FF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397E08-FC72-4C09-B31B-101C1EEBD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6ADCB-C838-4D61-9D7A-97A64FF6E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EF0BE2-7080-444C-8C01-4B189192D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13 Triángulo rectángulo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14 Conector recto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C94E5-06A2-4977-9541-97532071C499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0 Triángulo rectángulo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15 Grupo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16 Forma libre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18 Forma libre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19 Forma libre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19 Forma libre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20 Conector recto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B948A-9380-4F03-AC04-FDF8A2F2E2E4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10 Cheurón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15 Cheurón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F9117-E8AB-461F-A929-5F9D8A4B1488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772C2-5A41-4DBA-B3C0-BFF04E877A2A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E266E-0A75-4F84-BD25-D657B44CAC4F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0F749-0A00-4107-ACDB-D5EB4EAB8242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E59E9-A6AB-4031-968F-018278E5B259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10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15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16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16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18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19 Cheurón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20 Cheurón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B7FC1-72FA-4D92-9DC3-B421D006A579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13" descr="3d3ca4_dromedario1"/>
          <p:cNvPicPr/>
          <p:nvPr/>
        </p:nvPicPr>
        <p:blipFill>
          <a:blip r:embed="rId1"/>
          <a:stretch/>
        </p:blipFill>
        <p:spPr>
          <a:xfrm>
            <a:off x="0" y="0"/>
            <a:ext cx="9144000" cy="36450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1" descr="marihuana"/>
          <p:cNvPicPr/>
          <p:nvPr/>
        </p:nvPicPr>
        <p:blipFill>
          <a:blip r:embed="rId2"/>
          <a:stretch/>
        </p:blipFill>
        <p:spPr>
          <a:xfrm>
            <a:off x="0" y="3213000"/>
            <a:ext cx="9144000" cy="364500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067280" y="6021000"/>
            <a:ext cx="5076720" cy="57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Lucida Sans Unicode"/>
              </a:rPr>
              <a:t>By Héctor, Irina and Rubé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Rectangle 8"/>
          <p:cNvSpPr/>
          <p:nvPr/>
        </p:nvSpPr>
        <p:spPr>
          <a:xfrm>
            <a:off x="1338120" y="4994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WordArt 15"/>
          <p:cNvSpPr txBox="1"/>
          <p:nvPr/>
        </p:nvSpPr>
        <p:spPr>
          <a:xfrm>
            <a:off x="468360" y="2205000"/>
            <a:ext cx="8351640" cy="1800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2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First term project: The three vital functions of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romedary and cannabis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2" descr="http://4.bp.blogspot.com/_xNZtv4xn0yk/TOiRKlK35iI/AAAAAAAAGbw/8BTzno5qEcg/s1600/cannabis_01_bgiu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c767c"/>
                </a:solidFill>
                <a:latin typeface="Lucida Sans Unicode"/>
              </a:rPr>
              <a:t>Cannabis is most commonly reproduced sexually because of the seeds that fall into the ground and grow with rain water. It doesn’t use pollen to reproduc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878600" y="-3741120"/>
            <a:ext cx="46080" cy="10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11" name="6 Rectángulo" descr=""/>
          <p:cNvPicPr/>
          <p:nvPr/>
        </p:nvPicPr>
        <p:blipFill>
          <a:blip r:embed="rId2"/>
          <a:stretch/>
        </p:blipFill>
        <p:spPr>
          <a:xfrm>
            <a:off x="1616040" y="60480"/>
            <a:ext cx="5553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2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" descr="http://2.bp.blogspot.com/-wO0_jcPdxi8/T_OVUfsMkZI/AAAAAAAAAV8/MkcjP1JC03I/s1600/thats+all+folks.gif"/>
          <p:cNvPicPr/>
          <p:nvPr/>
        </p:nvPicPr>
        <p:blipFill>
          <a:blip r:embed="rId1"/>
          <a:stretch/>
        </p:blipFill>
        <p:spPr>
          <a:xfrm>
            <a:off x="-41400" y="0"/>
            <a:ext cx="9185400" cy="6858000"/>
          </a:xfrm>
          <a:prstGeom prst="rect">
            <a:avLst/>
          </a:prstGeom>
          <a:ln w="0">
            <a:noFill/>
          </a:ln>
        </p:spPr>
      </p:pic>
      <p:sp>
        <p:nvSpPr>
          <p:cNvPr id="413" name="4 CuadroTexto"/>
          <p:cNvSpPr/>
          <p:nvPr/>
        </p:nvSpPr>
        <p:spPr>
          <a:xfrm rot="20794800">
            <a:off x="610920" y="54936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3a276"/>
                </a:solidFill>
                <a:latin typeface="Eras Bold ITC"/>
              </a:rPr>
              <a:t>Héctor Peribáñe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5 CuadroTexto"/>
          <p:cNvSpPr/>
          <p:nvPr/>
        </p:nvSpPr>
        <p:spPr>
          <a:xfrm rot="1119000">
            <a:off x="5829480" y="1273320"/>
            <a:ext cx="257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Eras Bold ITC"/>
              </a:rPr>
              <a:t>Rubén M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6 CuadroTexto"/>
          <p:cNvSpPr/>
          <p:nvPr/>
        </p:nvSpPr>
        <p:spPr>
          <a:xfrm>
            <a:off x="2987640" y="544500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99"/>
                </a:solidFill>
                <a:latin typeface="Eras Bold ITC"/>
              </a:rPr>
              <a:t>Irina Khodanist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5" descr="dromedary-camels-in-egypt-cairo-egypt+1152_12850582452-tpfil02aw-24933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00"/>
                </a:solidFill>
                <a:latin typeface="Lucida Sans Unicode"/>
              </a:rPr>
              <a:t>The dromedary has eukaryotic cells and animal cells.</a:t>
            </a:r>
            <a:endParaRPr b="0" lang="en-US" sz="6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WordArt 10"/>
          <p:cNvSpPr txBox="1"/>
          <p:nvPr/>
        </p:nvSpPr>
        <p:spPr>
          <a:xfrm>
            <a:off x="539640" y="33336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Type of cell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378" name="Text Box 11"/>
          <p:cNvSpPr/>
          <p:nvPr/>
        </p:nvSpPr>
        <p:spPr>
          <a:xfrm>
            <a:off x="5867280" y="5084640"/>
            <a:ext cx="244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13" descr="eucell1"/>
          <p:cNvPicPr/>
          <p:nvPr/>
        </p:nvPicPr>
        <p:blipFill>
          <a:blip r:embed="rId2"/>
          <a:stretch/>
        </p:blipFill>
        <p:spPr>
          <a:xfrm>
            <a:off x="6227640" y="4606920"/>
            <a:ext cx="2916360" cy="2251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4" descr="dromedary-camels-in-egypt-cairo-egypt+1152_12850582452-tpfil02aw-24933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00"/>
                </a:solidFill>
                <a:latin typeface="Lucida Sans Unicode"/>
              </a:rPr>
              <a:t>Obtaining nutrient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700" spc="-1" strike="noStrike">
                <a:solidFill>
                  <a:srgbClr val="ffff00"/>
                </a:solidFill>
                <a:latin typeface="Lucida Sans Unicode"/>
              </a:rPr>
              <a:t>Food is crushed by the teeth.The molecules are broken dow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700" spc="-1" strike="noStrike">
                <a:solidFill>
                  <a:srgbClr val="ffff00"/>
                </a:solidFill>
                <a:latin typeface="Lucida Sans Unicode"/>
              </a:rPr>
              <a:t>Nutrients are absorbed and carried to the cell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700" spc="-1" strike="noStrike">
                <a:solidFill>
                  <a:srgbClr val="ffff00"/>
                </a:solidFill>
                <a:latin typeface="Lucida Sans Unicode"/>
              </a:rPr>
              <a:t>The rest of the food is eliminated (excretion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WordArt 6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Trebuchet MS"/>
              </a:rPr>
              <a:t>Nutri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Trebuchet MS"/>
              <a:ea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4" descr="dromedary-camels-in-egypt-cairo-egypt+1152_12850582452-tpfil02aw-24933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 u="sng">
                <a:solidFill>
                  <a:srgbClr val="0070c0"/>
                </a:solidFill>
                <a:uFillTx/>
                <a:latin typeface="Lucida Sans Unicode"/>
              </a:rPr>
              <a:t>Breathing: 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70c0"/>
                </a:solidFill>
                <a:latin typeface="Lucida Sans Unicode"/>
              </a:rPr>
              <a:t>   </a:t>
            </a:r>
            <a:r>
              <a:rPr b="0" lang="es-ES_tradnl" sz="2500" spc="-1" strike="noStrike">
                <a:solidFill>
                  <a:srgbClr val="0070c0"/>
                </a:solidFill>
                <a:latin typeface="Lucida Sans Unicode"/>
              </a:rPr>
              <a:t>They take oxygen from the air by lungs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 u="sng">
                <a:solidFill>
                  <a:srgbClr val="0070c0"/>
                </a:solidFill>
                <a:uFillTx/>
                <a:latin typeface="Lucida Sans Unicode"/>
              </a:rPr>
              <a:t>Circulation: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70c0"/>
                </a:solidFill>
                <a:latin typeface="Lucida Sans Unicode"/>
              </a:rPr>
              <a:t>   </a:t>
            </a:r>
            <a:r>
              <a:rPr b="0" lang="es-ES_tradnl" sz="2500" spc="-1" strike="noStrike">
                <a:solidFill>
                  <a:srgbClr val="0070c0"/>
                </a:solidFill>
                <a:latin typeface="Lucida Sans Unicode"/>
              </a:rPr>
              <a:t>They are complex animals. Blood interchanges substances between the cells. The vessels and the heart thanks contraction and dilation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 u="sng">
                <a:solidFill>
                  <a:srgbClr val="0070c0"/>
                </a:solidFill>
                <a:uFillTx/>
                <a:latin typeface="Lucida Sans Unicode"/>
              </a:rPr>
              <a:t>Excretion: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 u="sng">
                <a:solidFill>
                  <a:srgbClr val="0070c0"/>
                </a:solidFill>
                <a:uFillTx/>
                <a:latin typeface="Lucida Sans Unicode"/>
              </a:rPr>
              <a:t>   </a:t>
            </a:r>
            <a:r>
              <a:rPr b="0" lang="es-ES_tradnl" sz="2500" spc="-1" strike="noStrike">
                <a:solidFill>
                  <a:srgbClr val="0070c0"/>
                </a:solidFill>
                <a:latin typeface="Lucida Sans Unicode"/>
              </a:rPr>
              <a:t>Through exchange surfaces (kidneys)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 u="sng">
                <a:solidFill>
                  <a:srgbClr val="0070c0"/>
                </a:solidFill>
                <a:uFillTx/>
                <a:latin typeface="Lucida Sans Unicode"/>
              </a:rPr>
              <a:t>    </a:t>
            </a:r>
            <a:r>
              <a:rPr b="0" lang="es-ES_tradnl" sz="2500" spc="-1" strike="noStrike">
                <a:solidFill>
                  <a:srgbClr val="0070c0"/>
                </a:solidFill>
                <a:latin typeface="Lucida Sans Unicode"/>
              </a:rPr>
              <a:t>Kidneys filters the blood extracts the waste and produce urine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1 Título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86" name="6 Rectángulo" descr=""/>
          <p:cNvPicPr/>
          <p:nvPr/>
        </p:nvPicPr>
        <p:blipFill>
          <a:blip r:embed="rId3"/>
          <a:stretch/>
        </p:blipFill>
        <p:spPr>
          <a:xfrm>
            <a:off x="463680" y="23760"/>
            <a:ext cx="821664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4" descr="dromedary-camels-in-egypt-cairo-egypt+1152_12850582452-tpfil02aw-24933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92d050"/>
                </a:solidFill>
                <a:latin typeface="Lucida Sans Unicode"/>
              </a:rPr>
              <a:t>It receives information through stimuli by the receptors for each type of stimulus. For capturing light, photoreceptors; for detecting heat thermoreceptors. Mechanoreceptors for detectimg senstive vibrations and forces and chemoreceptors: detectors of substanc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92d050"/>
                </a:solidFill>
                <a:latin typeface="Lucida Sans Unicode"/>
              </a:rPr>
              <a:t>All the whole organisms carry out the response because the cells are capable of responding to stimuli individuall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92d050"/>
                </a:solidFill>
                <a:latin typeface="Lucida Sans Unicode"/>
              </a:rPr>
              <a:t>Made by the effector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696080" y="-3682800"/>
            <a:ext cx="46080" cy="10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90" name="5 Rectángulo" descr=""/>
          <p:cNvPicPr/>
          <p:nvPr/>
        </p:nvPicPr>
        <p:blipFill>
          <a:blip r:embed="rId2"/>
          <a:stretch/>
        </p:blipFill>
        <p:spPr>
          <a:xfrm>
            <a:off x="1542960" y="158760"/>
            <a:ext cx="541188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8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8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8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4" descr="dromedary-camels-in-egypt-cairo-egypt+1152_12850582452-tpfil02aw-24933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The type of reproduction is: sexual reproductio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  </a:t>
            </a: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This means that they need a male and a   female to have a baby. It consists i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                 </a:t>
            </a: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- Gamete forma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                 </a:t>
            </a: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- Fertilisa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                 </a:t>
            </a: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- Develovement of zygot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790120" y="-4173480"/>
            <a:ext cx="46080" cy="10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94" name="4 Rectángulo" descr=""/>
          <p:cNvPicPr/>
          <p:nvPr/>
        </p:nvPicPr>
        <p:blipFill>
          <a:blip r:embed="rId2"/>
          <a:stretch/>
        </p:blipFill>
        <p:spPr>
          <a:xfrm>
            <a:off x="1695600" y="158760"/>
            <a:ext cx="531468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http://4.bp.blogspot.com/_xNZtv4xn0yk/TOiRKlK35iI/AAAAAAAAGbw/8BTzno5qEcg/s1600/cannabis_01_bgiu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 txBox="1"/>
          <p:nvPr/>
        </p:nvSpPr>
        <p:spPr>
          <a:xfrm>
            <a:off x="900000" y="1784160"/>
            <a:ext cx="7786800" cy="22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00"/>
                </a:solidFill>
                <a:latin typeface="Arial Rounded MT Bold"/>
              </a:rPr>
              <a:t>Cannabis has eukaryotic and plant cells so they perform photosyntesis.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640720" y="-3736440"/>
            <a:ext cx="46080" cy="10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98" name="5 Rectángulo" descr=""/>
          <p:cNvPicPr/>
          <p:nvPr/>
        </p:nvPicPr>
        <p:blipFill>
          <a:blip r:embed="rId2"/>
          <a:stretch/>
        </p:blipFill>
        <p:spPr>
          <a:xfrm>
            <a:off x="1828800" y="133200"/>
            <a:ext cx="5413320" cy="11527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4" descr="http://bio.mq.edu.au/units/biol317/plant%20cell.jpg"/>
          <p:cNvPicPr/>
          <p:nvPr/>
        </p:nvPicPr>
        <p:blipFill>
          <a:blip r:embed="rId3"/>
          <a:stretch/>
        </p:blipFill>
        <p:spPr>
          <a:xfrm>
            <a:off x="539640" y="4076640"/>
            <a:ext cx="3524400" cy="25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2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2" descr="http://4.bp.blogspot.com/_xNZtv4xn0yk/TOiRKlK35iI/AAAAAAAAGbw/8BTzno5qEcg/s1600/cannabis_01_bgiu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301320" y="1526760"/>
            <a:ext cx="8504280" cy="507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3300"/>
                </a:solidFill>
                <a:latin typeface="Aharoni"/>
                <a:ea typeface="Aharoni"/>
              </a:rPr>
              <a:t> </a:t>
            </a:r>
            <a:r>
              <a:rPr b="0" lang="es-ES_tradnl" sz="3400" spc="-1" strike="noStrike">
                <a:solidFill>
                  <a:srgbClr val="ff3300"/>
                </a:solidFill>
                <a:latin typeface="Aharoni"/>
                <a:ea typeface="Aharoni"/>
              </a:rPr>
              <a:t>1.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Water and minerals salts enters through the    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    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roots. CO2 enters through stomata and 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    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photosynthesis takes place in the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    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chloroplasts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</a:t>
            </a:r>
            <a:r>
              <a:rPr b="0" lang="es-ES_tradnl" sz="3400" spc="-1" strike="noStrike">
                <a:solidFill>
                  <a:srgbClr val="ff3300"/>
                </a:solidFill>
                <a:latin typeface="Aharoni"/>
                <a:ea typeface="Aharoni"/>
              </a:rPr>
              <a:t>2.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Plant absorbs oxygen in the mitochondria to 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    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get energy from the carbohydrates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ff3300"/>
                </a:solidFill>
                <a:latin typeface="Aharoni"/>
                <a:ea typeface="Aharoni"/>
              </a:rPr>
              <a:t> </a:t>
            </a:r>
            <a:r>
              <a:rPr b="0" lang="es-ES_tradnl" sz="3400" spc="-1" strike="noStrike">
                <a:solidFill>
                  <a:srgbClr val="ff3300"/>
                </a:solidFill>
                <a:latin typeface="Aharoni"/>
                <a:ea typeface="Aharoni"/>
              </a:rPr>
              <a:t>3.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Substances are transported through vessels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     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which run along de stem and the branches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</a:t>
            </a:r>
            <a:r>
              <a:rPr b="0" lang="es-ES_tradnl" sz="3400" spc="-1" strike="noStrike">
                <a:solidFill>
                  <a:srgbClr val="ff3300"/>
                </a:solidFill>
                <a:latin typeface="Aharoni"/>
                <a:ea typeface="Aharoni"/>
              </a:rPr>
              <a:t>4.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Oxygen from photosynthesis is eliminated through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    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stomata and also the CO2 from the respiration. Cannabis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    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store waste substances in old leaves and then they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    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eliminate them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790120" y="-4156200"/>
            <a:ext cx="46080" cy="10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03" name="4 Rectángulo" descr=""/>
          <p:cNvPicPr/>
          <p:nvPr/>
        </p:nvPicPr>
        <p:blipFill>
          <a:blip r:embed="rId2"/>
          <a:stretch/>
        </p:blipFill>
        <p:spPr>
          <a:xfrm>
            <a:off x="1865160" y="-92160"/>
            <a:ext cx="534060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4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4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4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4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4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4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4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4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4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http://4.bp.blogspot.com/_xNZtv4xn0yk/TOiRKlK35iI/AAAAAAAAGbw/8BTzno5qEcg/s1600/cannabis_01_bgiu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ff00"/>
                </a:solidFill>
                <a:latin typeface="Lucida Sans Unicode"/>
              </a:rPr>
              <a:t>Cannabis has a simple perception of information. It practises tropisms like phototropism (grow towards the sun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ff00"/>
                </a:solidFill>
                <a:latin typeface="Lucida Sans Unicode"/>
              </a:rPr>
              <a:t>They coordinate when they grow towards the sun because is the only movement they practis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ff00"/>
                </a:solidFill>
                <a:latin typeface="Lucida Sans Unicode"/>
              </a:rPr>
              <a:t> </a:t>
            </a:r>
            <a:r>
              <a:rPr b="0" lang="es-ES_tradnl" sz="2700" spc="-1" strike="noStrike">
                <a:solidFill>
                  <a:srgbClr val="ffff00"/>
                </a:solidFill>
                <a:latin typeface="Lucida Sans Unicode"/>
              </a:rPr>
              <a:t>They react to water growing towards the sun and preforming photosynthesi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028000" y="-4104360"/>
            <a:ext cx="46080" cy="10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07" name="5 Rectángulo" descr=""/>
          <p:cNvPicPr/>
          <p:nvPr/>
        </p:nvPicPr>
        <p:blipFill>
          <a:blip r:embed="rId2"/>
          <a:stretch/>
        </p:blipFill>
        <p:spPr>
          <a:xfrm>
            <a:off x="2114640" y="225360"/>
            <a:ext cx="491472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0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0T13:45:22Z</dcterms:created>
  <dc:creator>CM</dc:creator>
  <dc:description/>
  <dc:language>en-US</dc:language>
  <cp:lastModifiedBy>Usuario</cp:lastModifiedBy>
  <dcterms:modified xsi:type="dcterms:W3CDTF">2012-11-26T16:41:31Z</dcterms:modified>
  <cp:revision>25</cp:revision>
  <dc:subject/>
  <dc:title>Diapositiva 1</dc:title>
</cp:coreProperties>
</file>