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799-78BC-422A-A5EF-9CECB3BF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E9C-52F2-45CD-9604-232A6C68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6EB-C01F-4D3C-80D5-FBA1D7EA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70A-8AB2-4374-BE07-3BF172B3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6AB1-9DF5-49D9-88DA-8F6C9A5E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8CCC-37FE-4924-B760-CAE4CA71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73F-030E-404F-ACE4-47511136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A2BC-1D04-48C8-AA16-2A58794C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5181-3230-4C19-81F7-4034CDF9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5173-89BF-48C7-8DDE-3EB45C6C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0240-4434-49A9-9B93-00AA3B7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2C1-9B5C-4493-A040-601CE11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AD83-56A9-4737-B097-3FE926D3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4D84-37B3-46E2-B518-2F755567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C3E6-4CD8-46B6-A883-E4BD16B6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5E73-19A8-49C4-A616-15C6F96E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719C-D600-42A0-908E-B9F87969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F8B0-41FC-43A1-A418-F7272A95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B5DD-E4FB-4E26-8F75-FC694845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E6D8F-956D-45E2-8EAE-0C07998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4DB4-6E19-4D9F-BB16-F847059F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6249-E9AD-470E-AC0C-3CF0F270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BC5-1AB9-40D4-AC8A-C1FE7836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EF6A-462D-4686-8953-9CEE7F78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56765-25F8-4165-AC2F-213547A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2108-B7A8-4769-A16F-67ABC26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75A5-377B-4983-AF8A-13E0CB29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66B2-B3AD-464C-9C83-CDF52323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5D05-132F-4340-B1BA-D49BCF93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EC29-6D15-436A-B082-845FF3A2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A762-AEF8-47AE-8640-65F0CAA5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8B54-02FD-4F8D-B83B-CCA0FC94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7CD19-BD0F-487E-8D5D-31CE189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AFD-80E8-4996-955B-0D633BF5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1A47-CA00-40C4-9509-BF4E6BC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7AC8-DE77-40EF-832B-56B255DA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0FA7-0141-4DEB-A806-ADDB54F3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B1E5-BFEC-4F9B-BE08-CA80B7EF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B03A-26ED-470E-994A-E2AADB89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14D5-F613-4D80-B792-10546DD7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3D45-A7D9-42B4-9C07-6DAC5B98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A246-301E-4733-BC52-8E8833C7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0212-83BA-45BE-805F-473CBB6F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EAB68-AEEB-4BEE-8EAF-BDFD8805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D24-76ED-41E8-A62F-18D831F5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73B9-836E-48F3-81F2-A0E16E41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19113-701B-41F8-8D59-07C2B39C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8CC2C-3A65-41FB-B473-D9ABE5FD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ED83-20C1-407F-A7A2-F1024998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BED1-E43D-4214-93F2-AD64FB0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E89F-8846-45B3-935A-AC7B66E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C5AEC-5A6E-44C2-8FAC-3EC22809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A325-725A-4EF8-8BF9-5C26869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FDBEA-7BEB-41CD-85CB-3951656B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2DEE-4B0D-42D6-AE7A-E054CC4A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B30-A102-4852-8DC5-E3DF2DE6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679E-132F-4A40-BABE-72824E3D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743D3-9F80-4855-9EE4-1FC11818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9B401-344A-4FF8-9559-F15195F6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E6B5-CCA2-4BD1-834F-C3A95486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A22E-74ED-4123-BFA6-D3F4D0EC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E15B7-27E5-4AD1-981F-02AD49AC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3DCB-DB38-4D1A-82E9-ABC34E5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E4649-957C-4757-A75C-BE19B693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2FB04-5C7F-41F6-BEE5-AD40A04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A3D7-E4E7-44AF-B058-1303BAB1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027-B3EC-499F-9014-DC23E88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B6E1C-AD6B-45E4-92CC-F23FF3A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3E973-25EF-4132-819E-C64C0703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9CD1-43F4-404E-988C-91DB4224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2539F-9D66-40CF-B144-68256125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F58D5-AB57-46DC-96B7-413343BF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4A59-D884-4CDE-A38E-600A24E5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56E93-E18E-4D49-8DBD-29CA39B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F6DEC-2050-4B31-9242-81C4257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BB14-0797-4EDC-97ED-B94C8F9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D9B98-587F-450D-BD88-B29D8A4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147-1364-481B-85E1-B549646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B3EF3-F6AD-4105-A1A9-AE73926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8CA42-AAED-4ECC-9EFD-B545B9D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B9359-1793-48F0-9C7C-B8800194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97462-2B12-4530-9BA3-0ED8BE40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9FDDD-FEFA-4DBB-ABDF-BCCFCE50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730FE-04F6-47A1-BAD3-DEE27A18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78536-FB66-48CD-87BE-F1A79B9C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F71B1-64F3-4430-9802-34C5EC09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F36E8-BA06-4610-AA9E-29907185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ADC8-B9BA-4AAA-8613-A7DEF19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F54-C010-4867-8A52-091AC10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336BF-AE8A-4D19-97DD-3C34A7F0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B2C47-AAC1-41CA-8C30-B9075B04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37C04-4555-4BAC-806A-13F596CC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9590E-AF9A-457E-BAAB-2FAC37E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6AC85-9CFE-429D-AFB8-5C17BC9C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C17C-C318-421B-AF9D-588922FD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0B141-F98B-4726-9371-E79E8FE8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368-6E9C-401E-9F39-A1655C12352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38E2-5C54-4BAD-9671-D5485C040F2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BFB-C311-459D-89BB-6679A4E2DD0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B7C2-33DD-4F88-B198-EDCB7F8E050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B678-944A-4669-A5AB-5FCB94536B2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AC42-7BDF-4EB0-A361-4A8B14C4448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0CAF-378C-4EDC-AE43-7C629E164F3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0682-4056-467E-A1A6-8E2078082FE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cannabi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c767c"/>
                </a:solidFill>
                <a:latin typeface="Lucida Sans Unicode"/>
              </a:rPr>
              <a:t>Cannabis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16040" y="60480"/>
            <a:ext cx="5553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3680" y="23760"/>
            <a:ext cx="8216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2960" y="158760"/>
            <a:ext cx="5411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695600" y="158760"/>
            <a:ext cx="5314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Cannabis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28800" y="133200"/>
            <a:ext cx="541332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Cannabis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14640" y="225360"/>
            <a:ext cx="4914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Usuario</cp:lastModifiedBy>
  <dcterms:modified xsi:type="dcterms:W3CDTF">2012-11-26T16:41:31Z</dcterms:modified>
  <cp:revision>25</cp:revision>
  <dc:subject/>
  <dc:title>Diapositiva 1</dc:title>
</cp:coreProperties>
</file>