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E4A-169C-409C-9FB5-8F5D5904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250-BE8E-40EA-BE8F-85E2DFA4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04E-A9B5-4EA2-A2BF-AA88A05D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DDF-06BB-4BAB-955B-B7417379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0A5B-23AA-4DCA-95EB-91576B8E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93B6-0C69-4652-8C7E-B07893DF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67E3-41A1-44AB-B1E8-85F721BC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88FE-426B-4535-91CC-184D9C6D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D268-8D01-4593-B5C4-36E336E4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888A-E9AA-491B-8BB6-CB75C9F2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0759-FFFC-46CC-B6BE-0021DDD7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FFC-D147-4473-87EF-EE585F7E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CE26-0C34-4D29-8A64-9CAE7E1C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A1EE-9837-480E-A949-6F60926C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5281-CA02-48B6-B39D-CA3AD243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5955-1EC8-4F77-8528-49C3427A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BAB1-4289-4D57-AB06-0DD9B7BA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3D909-80D1-49C9-BC72-C99B2E0E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E3C9-6E37-4D44-B059-5FC97B36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E7FF-50C9-4088-A7E8-1C241E13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9D91-E04D-444C-B816-2B6619D7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0974-1A24-4122-B6B0-3C6E1C3B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45C-6F89-459C-B4C5-E5F8F142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CDA9-E0F1-4B6F-944E-BA43AD9E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553B-E8E9-4781-937D-3014458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EF67-741C-48F2-8872-1DFD2376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6FA1-D96D-4286-8C7F-F52A0617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C119-0CA6-4D86-B6DA-19938E8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A278-8EB3-4662-A324-3FCBC865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7E76-4D94-4F58-B361-E78BB144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3683-74EA-4A44-B426-5E8A823D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931B-9314-4595-BEF0-EB213991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487F-DF7F-42D0-A92D-9D899CE2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4DA-2BEC-42C4-ACC4-F7188D79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805B-C43E-4310-A393-CEACBCB5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CC6E-8DCE-402D-A59A-2C63A7C8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07DF9-F0AA-4533-B15F-874F48C2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062B-CB77-4484-B5EB-6AC295C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CFC5-131F-406F-8DD1-7F63899F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C78E-FEEF-4971-A2F6-A312616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1B05-1F0C-4D05-9B24-B8BDA633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6F3A-2BF7-437D-A726-7FBA2B0F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A2DF-3048-460D-B77E-5371740B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58F2-8E69-4C8F-A78F-F58F4446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E13-9278-41BA-9273-CD4404C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8C662-38F6-42ED-98D7-B395D588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FB48D-5594-4DE2-A62D-4F819D20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3491-7EAB-49C0-8961-EC8919CD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0B687-BF1A-4390-A04F-5800BB27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5AD3-556C-4C5E-ABC9-4FF881C7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FB35-F47A-4EB4-BA5E-7A02EE9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7024A-1EC5-449F-B7AC-AA38F20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76B5-202D-414B-A55B-80EDC99E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8F90-CC97-4610-8AAF-96FDFAA6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18FA-6F1E-4C8B-9727-4212F0BE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21A-D9BB-4245-A993-F0B3EE61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8D67-A247-40A1-835B-751A0E31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55CD8-4171-4B9D-88C3-F8CEB7DF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4DEB-0E8F-418C-B405-A0B0C8EB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CBC9-EF82-4D4F-A56E-CBA428DE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D6D5-F401-4CCE-99C7-40A907C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89135-E8E2-4A6B-BF94-2BCA2902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FDE5A-48F4-45E5-BABC-5240BDD2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AC842-65C0-4FBF-9653-6CB5211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CAF39-36A3-4F85-B719-E20017D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4621-8304-4B37-8B93-17BE42B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E80-9FF1-4E30-BD05-F266533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BD33-08DA-4696-8A39-DB1C9A9B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3F4C9-E47C-43B9-814D-AE1B5969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4388-11BE-4E77-86E8-AC16366D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B43C-0B42-42E6-BC63-9BE95633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15F58-79E3-4BBF-AED0-18EB604A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0EBE-52BD-4B67-836E-2D6FEAB8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DAE7-97BF-4385-A697-D4067164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E0046-B49C-4287-A60F-03B98989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44E73-62D5-4DAC-ADEB-58EE9F55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F437A-96C4-4026-BE4D-F2033B84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E39-44E0-4FF2-8BA6-79A3E6F5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94589-4675-40C1-AB04-388CEBC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3EF4-C3DC-4FA0-8135-B7355A42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23BFB-E58C-4B39-851F-FCD14C9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E12A2-78B3-42BC-A834-43815C79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345B-1D01-4D13-BE66-AE7E1B72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7A807-A76A-4C4C-858E-62E9A942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8A2CE-1FBC-4A59-931E-04FDC0EA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54CC-6FAD-4B16-902D-8D22E740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CD408-D707-42B6-849E-CF47A7DA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C0430-8911-4802-A06E-FBFDEE9F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9E2-E017-448E-A6E7-8BBC4F0E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8F98C-C4FE-4AAE-8D1F-A9129E75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9176-F280-45A2-9688-ABC4DB5F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1600E-9E9A-4C9D-B2AE-F52623F3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BEDFC-BEF0-43DD-98CB-F5E2DAB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A4BF-8252-474F-BB15-D1CFDEDF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90F6C-9FD9-4E6B-B266-03B01815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8ADF9-12A4-4A38-B17D-ECB36524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371A-2798-40BC-9827-43DC805A2CC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9277-5C3E-4AC8-A97F-2D845B21248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DB21-925C-4BEC-AF71-9E7C86E5C42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C59-3F67-4AD3-8D9B-070C8E492C0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B757-079C-4357-A00F-97DD570ED1D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A4D1-BFA2-4430-822F-05D07FAE583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7683-BBC0-480D-ACF0-8B25C0646D7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9A1-7A9F-4CBD-818A-0B24ECFA27F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cannabi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c767c"/>
                </a:solidFill>
                <a:latin typeface="Lucida Sans Unicode"/>
              </a:rPr>
              <a:t>Cannabis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16040" y="60480"/>
            <a:ext cx="5553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3680" y="23760"/>
            <a:ext cx="8216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2960" y="158760"/>
            <a:ext cx="5411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695600" y="158760"/>
            <a:ext cx="53146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Cannabis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28800" y="133200"/>
            <a:ext cx="541332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4.bp.blogspot.com/_xNZtv4xn0yk/TOiRKlK35iI/AAAAAAAAGbw/8BTzno5qEcg/s1600/cannabis_01_bgi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Cannabis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14640" y="225360"/>
            <a:ext cx="49147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Usuario</cp:lastModifiedBy>
  <dcterms:modified xsi:type="dcterms:W3CDTF">2012-11-26T16:41:31Z</dcterms:modified>
  <cp:revision>25</cp:revision>
  <dc:subject/>
  <dc:title>Diapositiva 1</dc:title>
</cp:coreProperties>
</file>