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png" ContentType="image/png"/>
  <Override PartName="/ppt/media/image7.jpeg" ContentType="image/jpeg"/>
  <Override PartName="/ppt/media/image13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3.png" ContentType="image/png"/>
  <Override PartName="/ppt/media/image22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png" ContentType="image/png"/>
  <Override PartName="/ppt/media/image15.jpeg" ContentType="image/jpeg"/>
  <Override PartName="/ppt/media/image2.png" ContentType="image/png"/>
  <Override PartName="/ppt/media/image9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ACB9-477E-4DF0-8A04-AC42B93FB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9677-B6F4-499C-8673-90E1CA3E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BDD9-7973-4976-A06D-834454EB5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8849-D273-4C44-B234-A0001AC8A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3C23-A613-4710-A14A-3A6ED7FB8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504B-9C6A-472D-B8C4-6F721A08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B3C5-B533-4FE3-AAE7-8293E4E5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CDBF-E62A-4E85-971A-69DCE906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CE79-F7B0-452D-8EAE-EC9A2A30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9B19-EAB0-4043-AB3E-F6249AE0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53C5-E7BC-4607-8F18-8532531C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0F11-AB0C-4B15-84D4-99DC5B3A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2F2E-A6D6-4F45-B053-D0A453F3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D8D2-09B8-4A4C-A90F-DD2D88EF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D537-D24E-4031-AF93-7DB948C8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ACBC-0BFC-4C2F-8D93-9ED03FB2D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8A62-96AD-4C44-83C3-698EE9089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C6B74-B463-465E-A2C1-7A469E7C2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788FE-4FF7-439C-8C2A-E380B27B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5D82D-7257-4863-9C15-B6718A40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E2003-CE41-4BA7-B842-9DCC0864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0BD65-ECC6-4B94-B53D-AD9E7960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42E6-3D95-44DE-A728-1E7DC6E2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54DF8-D237-4713-978B-0E15ECCD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55C1A-74D2-47D6-A8E8-9CDBC832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BE33F-57A4-491B-9593-60D2173E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78247-62A5-4EA5-895C-DB6F428D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27008-5113-45A6-8D11-184CE801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37840-80FF-4B6C-907E-C87B9A028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EDF9E-EA3A-4809-8FE5-4FD2DC28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F2195-D822-41AD-B3FE-259D42A93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C85D1-4633-41FE-B912-7FE79407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4BFFA-9682-4580-8882-9561B1DD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010C-73C7-408D-B6B8-A63BD861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0F5C3-8B94-4E7D-9BB2-16BE0543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9693B-4201-46B3-B020-1C745E8B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B0401-830D-4241-87C1-E4C22EA7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24A1C-98FA-4D8D-AFFF-848D2DF6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402E0-102F-425D-BF6C-D4EC21A7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6B3EB-3799-49D1-9D1D-B2A02236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2B4FC-8DFC-424A-B9F3-A8F2877E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067AC-0F84-4368-AC0F-713E3FF7A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B42AF-039D-4551-8755-6D5C62EA1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9E109-52A4-4D9B-995D-65D3CE910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473A-A022-449B-B58B-8A4B124D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26C97-4180-4879-AC1A-A308D859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3746C-6531-463C-9E39-325DDF41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5F7A1-2999-4042-8303-C1DA7497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B9B62-C53A-4B9F-8C66-5E4036FB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8FDB5-A895-4BE7-B136-64BDF6FD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A610B-92EA-41DA-9D69-6A81F23C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38B74-3892-41D3-8CBC-602DB840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1BDA7-AE40-4F92-AA80-13ADEBD8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668CF-7C21-4AE6-9F8E-434B8A77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48D03-66FC-461C-94CE-0EAA13E9F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8368-038E-482C-8543-126F30B0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3400E-13C2-465B-BABC-7D8581E18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ECAA7-6BBD-4726-A63A-B498F470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B10E0-1CBE-40FD-B14C-FDBC21C7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07B85-547A-4DE2-A653-5A4EF134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38635-66F2-41C1-9101-24836805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7EAA2-30F5-4A92-B57B-0827E914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47722-0058-4EFA-8AB9-8562BE9D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8C3EA-49BA-49D3-9012-C4BC7721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335B4-E246-4E6C-9A0C-14B56C6C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187AA-BAE7-4530-BB4C-6A2656F2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3F1E-2AD9-476D-AB69-6C87AF3C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FA36E-9F42-4FF0-810C-CBA742F2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6F6D9-EA36-42A2-BAC1-189A17D1A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DCC8E-8601-4AB8-AC7E-B3680F31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FE6DC-26AB-44C2-9BD4-325EB4F8B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6639A-1C64-47D1-8C46-70E686D3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EB64C-EED9-46C3-81A3-CEE04412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96F94-4927-417C-A18D-BFACCC8B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33C95-DD52-4C1E-898A-6C26C4C0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873FB-8DCA-49C0-85A9-53055713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6DBF6-E591-4340-AEE6-91B1E437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4EB8-BBB5-4D92-A9C4-1FEF1723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DF33C-0B98-4C5B-B94C-2F55520C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3CB4C-2394-409B-A39B-B4F394F6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CA2DB-6D80-4457-B706-AE2A305C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23410-6BF9-4466-A8AA-48769E97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837B1-A43A-4045-A48D-75E8A5A67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2C6F2-5195-404B-B872-083BE920C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198B3-F96B-446B-877C-73253F3E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79CB7-B778-4E0C-8443-533AB003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FA89A-F24A-42EA-8AEB-D80C76CC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CEA97-6040-4E11-989C-BB5F0C25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956A-3B7D-4E66-AA9C-0B77AC0E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8FB84-BF68-4BA2-B560-E1DD6D6B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C9C1E-A92C-4B22-819E-CAA83997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731DB-4290-46EA-97F4-4DEC5107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FBCEF-AC44-4F75-BB48-A61E0D84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9CE06-9C2C-4141-8D87-503AC988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CF7FC-1F69-40FE-861C-D4766DD3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A8D21-AB5A-4CC0-AAD3-9AF1E9CD9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FCD7-6BE3-4E77-8E4B-BDAC929A3B9D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F210-6F98-4161-9216-825C6B56FB9E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A695-E289-4792-BD66-C136DF46F1C7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CF24-C55C-479A-9CF8-3BC2D2E56814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2850-85D4-4F58-880C-6E2D80AEE479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02D3-50F4-4AE9-AF37-29F4FAFDED6D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D299-434C-41E4-815E-E7F7DD9EA842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744A-F284-42A8-B510-F91FA4FA624A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13" descr="3d3ca4_dromedario1"/>
          <p:cNvPicPr/>
          <p:nvPr/>
        </p:nvPicPr>
        <p:blipFill>
          <a:blip r:embed="rId1"/>
          <a:stretch/>
        </p:blipFill>
        <p:spPr>
          <a:xfrm>
            <a:off x="0" y="0"/>
            <a:ext cx="9144000" cy="3645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1" descr="marihuana"/>
          <p:cNvPicPr/>
          <p:nvPr/>
        </p:nvPicPr>
        <p:blipFill>
          <a:blip r:embed="rId2"/>
          <a:stretch/>
        </p:blipFill>
        <p:spPr>
          <a:xfrm>
            <a:off x="0" y="3213000"/>
            <a:ext cx="9144000" cy="364500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067280" y="6021000"/>
            <a:ext cx="5076720" cy="57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Lucida Sans Unicode"/>
              </a:rPr>
              <a:t>By Héctor, Irina and Rubé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1338120" y="499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WordArt 15"/>
          <p:cNvSpPr txBox="1"/>
          <p:nvPr/>
        </p:nvSpPr>
        <p:spPr>
          <a:xfrm>
            <a:off x="468360" y="2205000"/>
            <a:ext cx="8351640" cy="180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irst term project: The three vital functions of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romedary and spiky malaysian plant 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6" descr="C:\Users\Windows\Downloads\spiky_malaysian_plants_324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Lucida Sans Unicode"/>
              </a:rPr>
              <a:t>Spiky malaysian plant is most commonly reproduced sexually because of the seeds that fall into the ground and grow with rain water. It doesn’t use pollen to reprodu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878600" y="-374112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1" name="6 Rectángulo" descr=""/>
          <p:cNvPicPr/>
          <p:nvPr/>
        </p:nvPicPr>
        <p:blipFill>
          <a:blip r:embed="rId2"/>
          <a:stretch/>
        </p:blipFill>
        <p:spPr>
          <a:xfrm>
            <a:off x="1620720" y="66600"/>
            <a:ext cx="554220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2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http://2.bp.blogspot.com/-wO0_jcPdxi8/T_OVUfsMkZI/AAAAAAAAAV8/MkcjP1JC03I/s1600/thats+all+folks.gif"/>
          <p:cNvPicPr/>
          <p:nvPr/>
        </p:nvPicPr>
        <p:blipFill>
          <a:blip r:embed="rId1"/>
          <a:stretch/>
        </p:blipFill>
        <p:spPr>
          <a:xfrm>
            <a:off x="-41400" y="0"/>
            <a:ext cx="91854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4 CuadroTexto"/>
          <p:cNvSpPr/>
          <p:nvPr/>
        </p:nvSpPr>
        <p:spPr>
          <a:xfrm rot="20794800">
            <a:off x="610920" y="549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3a276"/>
                </a:solidFill>
                <a:latin typeface="Eras Bold ITC"/>
              </a:rPr>
              <a:t>Héctor Peribáñe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5 CuadroTexto"/>
          <p:cNvSpPr/>
          <p:nvPr/>
        </p:nvSpPr>
        <p:spPr>
          <a:xfrm rot="1119000">
            <a:off x="5829480" y="1273320"/>
            <a:ext cx="25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Eras Bold ITC"/>
              </a:rPr>
              <a:t>Rubén M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6 CuadroTexto"/>
          <p:cNvSpPr/>
          <p:nvPr/>
        </p:nvSpPr>
        <p:spPr>
          <a:xfrm>
            <a:off x="2987640" y="5445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99"/>
                </a:solidFill>
                <a:latin typeface="Eras Bold ITC"/>
              </a:rPr>
              <a:t>Irina Khodanis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5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00"/>
                </a:solidFill>
                <a:latin typeface="Lucida Sans Unicode"/>
              </a:rPr>
              <a:t>The dromedary has eukaryotic cells and animal cells.</a:t>
            </a:r>
            <a:endParaRPr b="0" lang="en-US" sz="6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WordArt 10"/>
          <p:cNvSpPr txBox="1"/>
          <p:nvPr/>
        </p:nvSpPr>
        <p:spPr>
          <a:xfrm>
            <a:off x="539640" y="333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Type of cel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378" name="Text Box 11"/>
          <p:cNvSpPr/>
          <p:nvPr/>
        </p:nvSpPr>
        <p:spPr>
          <a:xfrm>
            <a:off x="5867280" y="5084640"/>
            <a:ext cx="244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13" descr="eucell1"/>
          <p:cNvPicPr/>
          <p:nvPr/>
        </p:nvPicPr>
        <p:blipFill>
          <a:blip r:embed="rId2"/>
          <a:stretch/>
        </p:blipFill>
        <p:spPr>
          <a:xfrm>
            <a:off x="6227640" y="4606920"/>
            <a:ext cx="2916360" cy="2251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4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00"/>
                </a:solidFill>
                <a:latin typeface="Lucida Sans Unicode"/>
              </a:rPr>
              <a:t>Obtaining nutrient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ffff00"/>
                </a:solidFill>
                <a:latin typeface="Lucida Sans Unicode"/>
              </a:rPr>
              <a:t>Food is crushed by the teeth.The molecules are broken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ffff00"/>
                </a:solidFill>
                <a:latin typeface="Lucida Sans Unicode"/>
              </a:rPr>
              <a:t>Nutrients are absorbed and carried to the cel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ffff00"/>
                </a:solidFill>
                <a:latin typeface="Lucida Sans Unicode"/>
              </a:rPr>
              <a:t>The rest of the food is eliminated (excretio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WordArt 6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Trebuchet MS"/>
              </a:rPr>
              <a:t>Nutri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Trebuchet MS"/>
              <a:ea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4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 u="sng">
                <a:solidFill>
                  <a:srgbClr val="0070c0"/>
                </a:solidFill>
                <a:uFillTx/>
                <a:latin typeface="Lucida Sans Unicode"/>
              </a:rPr>
              <a:t>Breathing: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   </a:t>
            </a: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They take oxygen from the air by lung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 u="sng">
                <a:solidFill>
                  <a:srgbClr val="0070c0"/>
                </a:solidFill>
                <a:uFillTx/>
                <a:latin typeface="Lucida Sans Unicode"/>
              </a:rPr>
              <a:t>Circulation: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   </a:t>
            </a: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They are complex animals. Blood interchanges substances between the cells. The vessels and the heart thanks contraction and dilation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 u="sng">
                <a:solidFill>
                  <a:srgbClr val="0070c0"/>
                </a:solidFill>
                <a:uFillTx/>
                <a:latin typeface="Lucida Sans Unicode"/>
              </a:rPr>
              <a:t>Excretion: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 u="sng">
                <a:solidFill>
                  <a:srgbClr val="0070c0"/>
                </a:solidFill>
                <a:uFillTx/>
                <a:latin typeface="Lucida Sans Unicode"/>
              </a:rPr>
              <a:t>   </a:t>
            </a: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Through exchange surfaces (kidneys)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70c0"/>
                </a:solidFill>
                <a:uFillTx/>
                <a:latin typeface="Lucida Sans Unicode"/>
              </a:rPr>
              <a:t>    </a:t>
            </a: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Kidneys filters the blood extracts the waste and produce urine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1 Título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6" name="6 Rectángulo" descr=""/>
          <p:cNvPicPr/>
          <p:nvPr/>
        </p:nvPicPr>
        <p:blipFill>
          <a:blip r:embed="rId3"/>
          <a:stretch/>
        </p:blipFill>
        <p:spPr>
          <a:xfrm>
            <a:off x="469800" y="30240"/>
            <a:ext cx="82044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92d050"/>
                </a:solidFill>
                <a:latin typeface="Lucida Sans Unicode"/>
              </a:rPr>
              <a:t>It receives information through stimuli by the receptors for each type of stimulus. For capturing light, photoreceptors; for detecting heat thermoreceptors. Mechanoreceptors for detectimg senstive vibrations and forces and chemoreceptors: detectors of substanc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92d050"/>
                </a:solidFill>
                <a:latin typeface="Lucida Sans Unicode"/>
              </a:rPr>
              <a:t>All the whole organisms carry out the response because the cells are capable of responding to stimuli individuall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92d050"/>
                </a:solidFill>
                <a:latin typeface="Lucida Sans Unicode"/>
              </a:rPr>
              <a:t>Made by the effecto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96080" y="-368280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0" name="5 Rectángulo" descr=""/>
          <p:cNvPicPr/>
          <p:nvPr/>
        </p:nvPicPr>
        <p:blipFill>
          <a:blip r:embed="rId2"/>
          <a:stretch/>
        </p:blipFill>
        <p:spPr>
          <a:xfrm>
            <a:off x="1547640" y="165240"/>
            <a:ext cx="540252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The type of reproduction is: sexual reproductio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</a:t>
            </a: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This means that they need a male and a   female to have a baby. It consists i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               </a:t>
            </a: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- Gamete forma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               </a:t>
            </a: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- Fertilisa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               </a:t>
            </a: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- Develovement of zygot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790120" y="-417348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4" name="4 Rectángulo" descr=""/>
          <p:cNvPicPr/>
          <p:nvPr/>
        </p:nvPicPr>
        <p:blipFill>
          <a:blip r:embed="rId2"/>
          <a:stretch/>
        </p:blipFill>
        <p:spPr>
          <a:xfrm>
            <a:off x="1700280" y="165240"/>
            <a:ext cx="531000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7" descr="C:\Users\Windows\Downloads\275971-green-and-spiky-plants-of-the-cordyline-famil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900000" y="1784160"/>
            <a:ext cx="778680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 Rounded MT Bold"/>
              </a:rPr>
              <a:t>Spiky malaysian plant has eukaryotic and plant cells so they perform photosyntesis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640720" y="-373644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8" name="5 Rectángulo" descr=""/>
          <p:cNvPicPr/>
          <p:nvPr/>
        </p:nvPicPr>
        <p:blipFill>
          <a:blip r:embed="rId2"/>
          <a:stretch/>
        </p:blipFill>
        <p:spPr>
          <a:xfrm>
            <a:off x="1835280" y="139680"/>
            <a:ext cx="5400720" cy="15667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http://bio.mq.edu.au/units/biol317/plant%20cell.jpg"/>
          <p:cNvPicPr/>
          <p:nvPr/>
        </p:nvPicPr>
        <p:blipFill>
          <a:blip r:embed="rId3"/>
          <a:stretch/>
        </p:blipFill>
        <p:spPr>
          <a:xfrm>
            <a:off x="539640" y="4076640"/>
            <a:ext cx="352440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6" descr="C:\Users\Windows\Downloads\14285768-spiky-green-succulent-plant.jpg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301320" y="1526760"/>
            <a:ext cx="8504280" cy="50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3300"/>
                </a:solidFill>
                <a:latin typeface="Aharoni"/>
                <a:ea typeface="Aharoni"/>
              </a:rPr>
              <a:t> </a:t>
            </a: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1.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Water and minerals salts enters through the    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roots. CO2 enters through stomata and 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photosynthesis takes place in the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chloroplast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</a:t>
            </a: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2.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Plant absorbs oxygen in the mitochondria to 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get energy from the carbohydrat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 </a:t>
            </a: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3.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Substances are transported through vessels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which run along de stem and the branch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</a:t>
            </a: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4.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Oxygen from photosynthesis is eliminated through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stomata and also the CO2 from the respiration. Cannabis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store waste substances in old leaves and then they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eliminate them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790120" y="-415620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03" name="4 Rectángulo" descr=""/>
          <p:cNvPicPr/>
          <p:nvPr/>
        </p:nvPicPr>
        <p:blipFill>
          <a:blip r:embed="rId2"/>
          <a:stretch/>
        </p:blipFill>
        <p:spPr>
          <a:xfrm>
            <a:off x="1865160" y="-92160"/>
            <a:ext cx="534060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6" descr="C:\Users\Windows\Downloads\14310593-spiky-agave-plant-in-los-angeles-californ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00"/>
                </a:solidFill>
                <a:latin typeface="Lucida Sans Unicode"/>
              </a:rPr>
              <a:t>Spiky malaysian plant has a simple perception of information. It practises tropisms like phototropism (grow towards the su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00"/>
                </a:solidFill>
                <a:latin typeface="Lucida Sans Unicode"/>
              </a:rPr>
              <a:t>They coordinate when they grow towards the sun because is the only movement they practis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0" lang="es-ES_tradnl" sz="2700" spc="-1" strike="noStrike">
                <a:solidFill>
                  <a:srgbClr val="ffff00"/>
                </a:solidFill>
                <a:latin typeface="Lucida Sans Unicode"/>
              </a:rPr>
              <a:t>They react to water growing towards the sun and preforming photosynthes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028000" y="-410436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07" name="5 Rectángulo" descr=""/>
          <p:cNvPicPr/>
          <p:nvPr/>
        </p:nvPicPr>
        <p:blipFill>
          <a:blip r:embed="rId2"/>
          <a:stretch/>
        </p:blipFill>
        <p:spPr>
          <a:xfrm>
            <a:off x="2120760" y="225360"/>
            <a:ext cx="490248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3:45:22Z</dcterms:created>
  <dc:creator>CM</dc:creator>
  <dc:description/>
  <dc:language>en-US</dc:language>
  <cp:lastModifiedBy>Windows</cp:lastModifiedBy>
  <dcterms:modified xsi:type="dcterms:W3CDTF">2012-12-12T19:56:19Z</dcterms:modified>
  <cp:revision>26</cp:revision>
  <dc:subject/>
  <dc:title>Diapositiva 1</dc:title>
</cp:coreProperties>
</file>