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png" ContentType="image/png"/>
  <Override PartName="/ppt/media/image7.jpeg" ContentType="image/jpeg"/>
  <Override PartName="/ppt/media/image13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3.png" ContentType="image/png"/>
  <Override PartName="/ppt/media/image22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png" ContentType="image/png"/>
  <Override PartName="/ppt/media/image15.jpeg" ContentType="image/jpeg"/>
  <Override PartName="/ppt/media/image2.png" ContentType="image/png"/>
  <Override PartName="/ppt/media/image9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FDAB-9FFB-42C2-96E3-EDBEB59CD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B07A-4087-4399-A898-48077AD5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E826-EE5F-4BB3-9A0D-AD9740932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B02E-2F56-474A-9E56-E708F9ED8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4AA2-1A14-4DA1-85F7-45C563FEB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D875-F7B8-419D-B89C-9A98450E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25B2-D414-4182-951C-0D8C28CB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9B15-3C12-4389-818E-7C808F22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742A-CC7D-416D-B175-D249F43A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CDB8-F334-4D52-9906-B0AA3E1C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24DD-448D-413C-BB49-C90E3875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0CF0-CA51-4CD6-AA58-A7557F39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5C35-2AAA-40E3-AD7E-00F10E9C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E699-2A44-490A-930B-B8DCA731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C737-52D8-4A26-8966-8E032456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65D3-F312-49B2-870B-B641CB18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CE4F-8495-4AB6-9605-982A58818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52492-23B7-4C9E-B9D0-8DE64B13E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25F2B-065F-4B95-8CFD-7C90D949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C2A03-C2D5-4166-91FB-F6DE743E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D1E92-4305-4C65-945C-A745D60E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31BE0-AF9E-487D-AB9B-1B5720F7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2509-2647-40B3-9F4E-17B98441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59AAD-4424-49D7-851A-097826AD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0B7ED-27AD-46C7-935A-FE2473C5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BBD65-AAE4-4BD1-B0EF-37298CCC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C8DBF-C745-4234-ADAE-881ECC1D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FDDA6-B217-4129-9B90-13160985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30967-2B40-4848-8B11-C47F4239E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90B45-A9C1-42CF-9D69-15CC244E6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E5D4E-6B13-4180-AE73-029D05753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1CE19-107D-4FAF-9DD1-2E9496F4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A2782-7F8E-4068-AC71-5A915B86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A600-754E-40D6-AEF7-0279529C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3E0A7-FD0B-4847-9601-719AB2FC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E35FF-8140-4B01-98B5-0D6F7F61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81A48-D010-4A57-BFE3-92397166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292B8-FEB3-4DEC-BFF8-8310633D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3CE16-BB4F-476D-A0EB-04DB60BA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B6128-8836-4258-9DBB-DFB6645B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E4FF3-6F2E-449A-A03B-15209A78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14205-A261-4F06-98EE-030777087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140F3-3013-4564-AFC9-2DC45D767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E5315-A8E6-48DC-8885-D5B58BEF7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31B7-869C-48AA-BD8D-7B477B71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31669-425A-48CB-9B70-751FAFB2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874BF-A556-43B5-A718-5060624C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7018E-FB77-4ACD-9243-81D580E7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53D2F-F38C-4C68-8F12-80CDC37B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DB03A-4268-4A51-88DA-333F2E17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8774F-6206-4B65-AB29-9D49710D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E4E68-D370-49F9-98E9-2CB4DEED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C11D2-1144-4F84-AFCA-FEC682C0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0143F-E840-4C35-BA33-838C0E54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3B7BB-3FCC-49C1-B566-59CB9CE60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38EB-6A4D-49DA-8D56-07D603C4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1BB2F-740A-4DE4-84A9-954B519EB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21A0C-6152-448B-A1C5-41E24195D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1532C-B8A4-4D94-9C5C-C7CE1C0B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51591-4C67-4A76-B9CD-4CAA6EAF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E2FDA-7683-4DE6-9484-8CBB2913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1AEF0-801B-41FF-9582-59983569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3D576-AD74-4E7E-B75A-E8CEF1ED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004CD-CBA0-47C6-A19A-30B618E7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781D4-861F-4070-8923-0B567ADF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60667-AD6A-42E3-87E1-71C42527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937C-F859-4DA6-AD9A-E4518345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B6003-16C5-42CE-93FD-7E32B56D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FB60D-6E3E-49E2-ACC3-AFBA7ECB8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043A7-576B-4E66-A69A-D581850B2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2E800-458F-4DF6-8AE0-43BFB697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F5211-56ED-46C0-A178-A3D57B6B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2C91D-B281-4F8A-8802-1026065E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66FB4-BEBA-4C9A-8F6A-857315BE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CCE4C-D8D1-443A-B2C3-3F954532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8579E-38AB-4A52-8BFD-6194A25B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C70DD-2CBC-4C61-B8D7-71D2940B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E7D6-4AB5-4B26-8B3C-8AFB0E6D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35513-4480-4C0D-9CF4-A489E4EF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3ADA5-EF1A-4B42-B550-1569F08B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F8660-68E3-4C84-9350-F36A88E7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66C05-070F-4BB1-8BE4-61FB42471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7DCEB-B06B-45B7-927F-9EC8BC04E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91B1A-2A36-48E5-88D2-CDED389F7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5FD7A-4BC4-4655-958A-6099F472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6E495-A266-452F-8E4C-DDD6B5AB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18E78-0CDF-4BD7-9AFE-4EF72316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98084-2FFC-4372-8F29-39AD2EFD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54BD-C900-4F57-8F24-5CFF4CE4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CA1C0-306B-4962-9201-A779CB1B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AA08C-8470-4A7F-A1C0-13E66967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B192F-D5B6-49FE-BA27-07C27018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BAC80-4D03-4035-844D-555CC638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FB92D-1D20-4857-9992-9CBDA9BC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B4CC9-7C07-4362-B9FE-487BE3A25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C0F80-1803-4A96-9DA9-DB012A939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1B57-A43D-4A01-852C-BE8F18255979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F563-C23E-4FB6-9656-C7BE524B4992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2735-D889-4112-A7CC-E93F588FD6A5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7E0C-B012-440F-8089-FF7249009AF5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E602-F1BC-44BB-9044-1E013A770CC8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7E28-2413-4B73-88E0-E49109F4E9E5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A5DE-72F6-4A93-A792-AE8889712361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FD8E-4390-4F3F-903B-008BB673738C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13" descr="3d3ca4_dromedario1"/>
          <p:cNvPicPr/>
          <p:nvPr/>
        </p:nvPicPr>
        <p:blipFill>
          <a:blip r:embed="rId1"/>
          <a:stretch/>
        </p:blipFill>
        <p:spPr>
          <a:xfrm>
            <a:off x="0" y="0"/>
            <a:ext cx="9144000" cy="3645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1" descr="marihuana"/>
          <p:cNvPicPr/>
          <p:nvPr/>
        </p:nvPicPr>
        <p:blipFill>
          <a:blip r:embed="rId2"/>
          <a:stretch/>
        </p:blipFill>
        <p:spPr>
          <a:xfrm>
            <a:off x="0" y="3213000"/>
            <a:ext cx="9144000" cy="364500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067280" y="6021000"/>
            <a:ext cx="5076720" cy="57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Lucida Sans Unicode"/>
              </a:rPr>
              <a:t>By Héctor, Irina and Rubé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1338120" y="499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WordArt 15"/>
          <p:cNvSpPr txBox="1"/>
          <p:nvPr/>
        </p:nvSpPr>
        <p:spPr>
          <a:xfrm>
            <a:off x="468360" y="2205000"/>
            <a:ext cx="8351640" cy="180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irst term project: The three vital functions of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romedary and spiky malaysian plant 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6" descr="C:\Users\Windows\Downloads\spiky_malaysian_plants_324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Lucida Sans Unicode"/>
              </a:rPr>
              <a:t>Spiky malaysian plant is most commonly reproduced sexually because of the seeds that fall into the ground and grow with rain water. It doesn’t use pollen to reprodu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878600" y="-374112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1" name="6 Rectángulo" descr=""/>
          <p:cNvPicPr/>
          <p:nvPr/>
        </p:nvPicPr>
        <p:blipFill>
          <a:blip r:embed="rId2"/>
          <a:stretch/>
        </p:blipFill>
        <p:spPr>
          <a:xfrm>
            <a:off x="1620720" y="66600"/>
            <a:ext cx="554220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2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http://2.bp.blogspot.com/-wO0_jcPdxi8/T_OVUfsMkZI/AAAAAAAAAV8/MkcjP1JC03I/s1600/thats+all+folks.gif"/>
          <p:cNvPicPr/>
          <p:nvPr/>
        </p:nvPicPr>
        <p:blipFill>
          <a:blip r:embed="rId1"/>
          <a:stretch/>
        </p:blipFill>
        <p:spPr>
          <a:xfrm>
            <a:off x="-41400" y="0"/>
            <a:ext cx="91854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4 CuadroTexto"/>
          <p:cNvSpPr/>
          <p:nvPr/>
        </p:nvSpPr>
        <p:spPr>
          <a:xfrm rot="20794800">
            <a:off x="610920" y="549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3a276"/>
                </a:solidFill>
                <a:latin typeface="Eras Bold ITC"/>
              </a:rPr>
              <a:t>Héctor Peribáñe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5 CuadroTexto"/>
          <p:cNvSpPr/>
          <p:nvPr/>
        </p:nvSpPr>
        <p:spPr>
          <a:xfrm rot="1119000">
            <a:off x="5829480" y="1273320"/>
            <a:ext cx="25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Eras Bold ITC"/>
              </a:rPr>
              <a:t>Rubén M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6 CuadroTexto"/>
          <p:cNvSpPr/>
          <p:nvPr/>
        </p:nvSpPr>
        <p:spPr>
          <a:xfrm>
            <a:off x="2987640" y="5445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99"/>
                </a:solidFill>
                <a:latin typeface="Eras Bold ITC"/>
              </a:rPr>
              <a:t>Irina Khodanis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5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00"/>
                </a:solidFill>
                <a:latin typeface="Lucida Sans Unicode"/>
              </a:rPr>
              <a:t>The dromedary has eukaryotic cells and animal cells.</a:t>
            </a:r>
            <a:endParaRPr b="0" lang="en-US" sz="6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WordArt 10"/>
          <p:cNvSpPr txBox="1"/>
          <p:nvPr/>
        </p:nvSpPr>
        <p:spPr>
          <a:xfrm>
            <a:off x="539640" y="333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Type of cel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378" name="Text Box 11"/>
          <p:cNvSpPr/>
          <p:nvPr/>
        </p:nvSpPr>
        <p:spPr>
          <a:xfrm>
            <a:off x="5867280" y="5084640"/>
            <a:ext cx="244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13" descr="eucell1"/>
          <p:cNvPicPr/>
          <p:nvPr/>
        </p:nvPicPr>
        <p:blipFill>
          <a:blip r:embed="rId2"/>
          <a:stretch/>
        </p:blipFill>
        <p:spPr>
          <a:xfrm>
            <a:off x="6227640" y="4606920"/>
            <a:ext cx="2916360" cy="2251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4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00"/>
                </a:solidFill>
                <a:latin typeface="Lucida Sans Unicode"/>
              </a:rPr>
              <a:t>Obtaining nutrient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ffff00"/>
                </a:solidFill>
                <a:latin typeface="Lucida Sans Unicode"/>
              </a:rPr>
              <a:t>Food is crushed by the teeth.The molecules are broken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ffff00"/>
                </a:solidFill>
                <a:latin typeface="Lucida Sans Unicode"/>
              </a:rPr>
              <a:t>Nutrients are absorbed and carried to the cel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ffff00"/>
                </a:solidFill>
                <a:latin typeface="Lucida Sans Unicode"/>
              </a:rPr>
              <a:t>The rest of the food is eliminated (excretio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WordArt 6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Trebuchet MS"/>
              </a:rPr>
              <a:t>Nutri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Trebuchet MS"/>
              <a:ea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4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 u="sng">
                <a:solidFill>
                  <a:srgbClr val="0070c0"/>
                </a:solidFill>
                <a:uFillTx/>
                <a:latin typeface="Lucida Sans Unicode"/>
              </a:rPr>
              <a:t>Breathing: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   </a:t>
            </a: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They take oxygen from the air by lung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 u="sng">
                <a:solidFill>
                  <a:srgbClr val="0070c0"/>
                </a:solidFill>
                <a:uFillTx/>
                <a:latin typeface="Lucida Sans Unicode"/>
              </a:rPr>
              <a:t>Circulation: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   </a:t>
            </a: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They are complex animals. Blood interchanges substances between the cells. The vessels and the heart thanks contraction and dilation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 u="sng">
                <a:solidFill>
                  <a:srgbClr val="0070c0"/>
                </a:solidFill>
                <a:uFillTx/>
                <a:latin typeface="Lucida Sans Unicode"/>
              </a:rPr>
              <a:t>Excretion: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 u="sng">
                <a:solidFill>
                  <a:srgbClr val="0070c0"/>
                </a:solidFill>
                <a:uFillTx/>
                <a:latin typeface="Lucida Sans Unicode"/>
              </a:rPr>
              <a:t>   </a:t>
            </a: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Through exchange surfaces (kidneys)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70c0"/>
                </a:solidFill>
                <a:uFillTx/>
                <a:latin typeface="Lucida Sans Unicode"/>
              </a:rPr>
              <a:t>    </a:t>
            </a: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Kidneys filters the blood extracts the waste and produce urine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1 Título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6" name="6 Rectángulo" descr=""/>
          <p:cNvPicPr/>
          <p:nvPr/>
        </p:nvPicPr>
        <p:blipFill>
          <a:blip r:embed="rId3"/>
          <a:stretch/>
        </p:blipFill>
        <p:spPr>
          <a:xfrm>
            <a:off x="469800" y="30240"/>
            <a:ext cx="82044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92d050"/>
                </a:solidFill>
                <a:latin typeface="Lucida Sans Unicode"/>
              </a:rPr>
              <a:t>It receives information through stimuli by the receptors for each type of stimulus. For capturing light, photoreceptors; for detecting heat thermoreceptors. Mechanoreceptors for detectimg senstive vibrations and forces and chemoreceptors: detectors of substanc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92d050"/>
                </a:solidFill>
                <a:latin typeface="Lucida Sans Unicode"/>
              </a:rPr>
              <a:t>All the whole organisms carry out the response because the cells are capable of responding to stimuli individuall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92d050"/>
                </a:solidFill>
                <a:latin typeface="Lucida Sans Unicode"/>
              </a:rPr>
              <a:t>Made by the effecto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96080" y="-368280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0" name="5 Rectángulo" descr=""/>
          <p:cNvPicPr/>
          <p:nvPr/>
        </p:nvPicPr>
        <p:blipFill>
          <a:blip r:embed="rId2"/>
          <a:stretch/>
        </p:blipFill>
        <p:spPr>
          <a:xfrm>
            <a:off x="1547640" y="165240"/>
            <a:ext cx="540252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The type of reproduction is: sexual reproductio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</a:t>
            </a: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This means that they need a male and a   female to have a baby. It consists i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               </a:t>
            </a: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- Gamete forma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               </a:t>
            </a: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- Fertilisa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               </a:t>
            </a: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- Develovement of zygot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790120" y="-417348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4" name="4 Rectángulo" descr=""/>
          <p:cNvPicPr/>
          <p:nvPr/>
        </p:nvPicPr>
        <p:blipFill>
          <a:blip r:embed="rId2"/>
          <a:stretch/>
        </p:blipFill>
        <p:spPr>
          <a:xfrm>
            <a:off x="1700280" y="165240"/>
            <a:ext cx="531000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7" descr="C:\Users\Windows\Downloads\275971-green-and-spiky-plants-of-the-cordyline-famil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900000" y="1784160"/>
            <a:ext cx="778680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 Rounded MT Bold"/>
              </a:rPr>
              <a:t>Spiky malaysian plant has eukaryotic and plant cells so they perform photosyntesis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640720" y="-373644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8" name="5 Rectángulo" descr=""/>
          <p:cNvPicPr/>
          <p:nvPr/>
        </p:nvPicPr>
        <p:blipFill>
          <a:blip r:embed="rId2"/>
          <a:stretch/>
        </p:blipFill>
        <p:spPr>
          <a:xfrm>
            <a:off x="1835280" y="139680"/>
            <a:ext cx="5400720" cy="15667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http://bio.mq.edu.au/units/biol317/plant%20cell.jpg"/>
          <p:cNvPicPr/>
          <p:nvPr/>
        </p:nvPicPr>
        <p:blipFill>
          <a:blip r:embed="rId3"/>
          <a:stretch/>
        </p:blipFill>
        <p:spPr>
          <a:xfrm>
            <a:off x="539640" y="4076640"/>
            <a:ext cx="352440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6" descr="C:\Users\Windows\Downloads\14285768-spiky-green-succulent-plant.jpg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301320" y="1526760"/>
            <a:ext cx="8504280" cy="50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3300"/>
                </a:solidFill>
                <a:latin typeface="Aharoni"/>
                <a:ea typeface="Aharoni"/>
              </a:rPr>
              <a:t> </a:t>
            </a: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1.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Water and minerals salts enters through the    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roots. CO2 enters through stomata and 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photosynthesis takes place in the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chloroplast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</a:t>
            </a: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2.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Plant absorbs oxygen in the mitochondria to 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get energy from the carbohydrat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 </a:t>
            </a: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3.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Substances are transported through vessels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which run along de stem and the branch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</a:t>
            </a: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4.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Oxygen from photosynthesis is eliminated through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stomata and also the CO2 from the respiration. Cannabis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store waste substances in old leaves and then they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eliminate them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790120" y="-415620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03" name="4 Rectángulo" descr=""/>
          <p:cNvPicPr/>
          <p:nvPr/>
        </p:nvPicPr>
        <p:blipFill>
          <a:blip r:embed="rId2"/>
          <a:stretch/>
        </p:blipFill>
        <p:spPr>
          <a:xfrm>
            <a:off x="1865160" y="-92160"/>
            <a:ext cx="534060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6" descr="C:\Users\Windows\Downloads\14310593-spiky-agave-plant-in-los-angeles-californ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00"/>
                </a:solidFill>
                <a:latin typeface="Lucida Sans Unicode"/>
              </a:rPr>
              <a:t>Spiky malaysian plant has a simple perception of information. It practises tropisms like phototropism (grow towards the su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00"/>
                </a:solidFill>
                <a:latin typeface="Lucida Sans Unicode"/>
              </a:rPr>
              <a:t>They coordinate when they grow towards the sun because is the only movement they practis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0" lang="es-ES_tradnl" sz="2700" spc="-1" strike="noStrike">
                <a:solidFill>
                  <a:srgbClr val="ffff00"/>
                </a:solidFill>
                <a:latin typeface="Lucida Sans Unicode"/>
              </a:rPr>
              <a:t>They react to water growing towards the sun and preforming photosynthes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028000" y="-410436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07" name="5 Rectángulo" descr=""/>
          <p:cNvPicPr/>
          <p:nvPr/>
        </p:nvPicPr>
        <p:blipFill>
          <a:blip r:embed="rId2"/>
          <a:stretch/>
        </p:blipFill>
        <p:spPr>
          <a:xfrm>
            <a:off x="2120760" y="225360"/>
            <a:ext cx="490248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3:45:22Z</dcterms:created>
  <dc:creator>CM</dc:creator>
  <dc:description/>
  <dc:language>en-US</dc:language>
  <cp:lastModifiedBy>Windows</cp:lastModifiedBy>
  <dcterms:modified xsi:type="dcterms:W3CDTF">2012-12-12T19:56:19Z</dcterms:modified>
  <cp:revision>26</cp:revision>
  <dc:subject/>
  <dc:title>Diapositiva 1</dc:title>
</cp:coreProperties>
</file>