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Img"/>
          </p:nvPr>
        </p:nvSpPr>
        <p:spPr>
          <a:xfrm>
            <a:off x="1312560" y="1026720"/>
            <a:ext cx="493236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The rat and the palm tre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76360" y="1595520"/>
            <a:ext cx="3990960" cy="3805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896000" y="1655640"/>
            <a:ext cx="4416120" cy="3805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25040" y="374292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99284c"/>
                </a:solidFill>
                <a:latin typeface="Arial"/>
              </a:rPr>
              <a:t>By Joel J., Daniel A. &amp; Fernando R.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 spd="med"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dur="indefinite" fill="hold">
                      <p:stCondLst>
                        <p:cond delay="indefinite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25640" y="3792600"/>
            <a:ext cx="7686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808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NUTRITION FUNCTION OF PALM TR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Nutrition of the palm tre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29880" y="22316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Obtaining nutrients: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perform the photosynthesi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Respiration: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absorb oxygen through the stomata to get energy by the                mitochondria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Substance distribution: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distribute the phloem sap throughout the plant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Eliminating waste matter: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keep the waste substances in old leaves.</a:t>
            </a: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23ff23"/>
                </a:solidFill>
                <a:latin typeface="Arial"/>
              </a:rPr>
              <a:t>Interaction function of the palm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Interaction function of the palm tre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move towards the sun to obtain solar energy. They move very slowly. This is a nastic movement called photonasty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It also perform tropism. For example, the roots grow towards the earth using geotropism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03280" y="5040360"/>
            <a:ext cx="892800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527280" y="936720"/>
            <a:ext cx="2880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c5000b"/>
                </a:solidFill>
                <a:latin typeface="Arial"/>
              </a:rPr>
              <a:t>Reproduction function of the palm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Reproduction function of the palm tre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have asexual reproduction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reproduce through pollen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47640" y="3095640"/>
            <a:ext cx="8640720" cy="391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Conclusion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Rats and palm trees are living things and they perform the three vital functions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It is more evident when animals are performing the 3 vital functions than when plants are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Outlin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1. Cell type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2. Nutrition function of the rat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3. Interaction function of the rat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4. Reproduction function of the rat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5. Nutrition function of the palm tree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6. Interaction function of the palm tree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7. Reproduction function of the palm tree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8. Conclusion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8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8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8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Cell typ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70120" y="2160360"/>
            <a:ext cx="84182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 rat has animal eukaryotic cell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 palm tree has plant eukaryotic cell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08360" y="3168720"/>
            <a:ext cx="4680000" cy="3736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76360" y="3168720"/>
            <a:ext cx="4032000" cy="3736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dur="indefinite" fill="hold">
                      <p:stCondLst>
                        <p:cond delay="indefinite"/>
                      </p:stCondLst>
                      <p:childTnLst>
                        <p:par>
                          <p:cTn id="1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dur="indefinite" fill="hold">
                      <p:stCondLst>
                        <p:cond delay="indefinite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440000" y="4608360"/>
            <a:ext cx="712764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Arial"/>
              </a:rPr>
              <a:t>NUTRITION FUNCTION OF R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Nutrition function of the r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0360" y="222048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Obtaining nutrients: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 They obtain nutrients with a mouth with teeth and tongue.</a:t>
            </a: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have a complex digestive tract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Breathing: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take oxygen from the air by the lung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Circulation and excretion: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have a closed circulatory system with a heart. They use the kidneys and the anu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dur="indefinite" fill="hold">
                      <p:stCondLst>
                        <p:cond delay="indefinite"/>
                      </p:stCondLst>
                      <p:childTnLst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lang="es-ES" sz="4400" spc="-1" strike="noStrike">
                <a:solidFill>
                  <a:srgbClr val="47b8b8"/>
                </a:solidFill>
                <a:latin typeface="Arial"/>
              </a:rPr>
              <a:t>NUTRITION FUNCTION OF R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91280" y="216000"/>
            <a:ext cx="2808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Interaction function of the r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98240" indent="-4276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Interaction  with the environment: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 rat goes to the rubbish in search of food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8240" indent="-4276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Perception of information: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perceive the information by the eyes, ears, mouth, nose and skin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8240" indent="-4276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Processing and coordination: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When they perceive information, it´s carried on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82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rough the nerves to the brain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8240" indent="-4276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Execution of responses: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 The information is carried on to the muscles to produce reactions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666600"/>
                </a:solidFill>
                <a:latin typeface="Arial"/>
              </a:rPr>
              <a:t>REPRODUCTION FUNCTION OF PALM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Reproduction function of the r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0360" y="187128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 rats have a sexual reproduction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 sperm enters in the ovule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20720" y="2879640"/>
            <a:ext cx="8640720" cy="4103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4T09:59:00Z</dcterms:created>
  <dc:creator/>
  <dc:description>Presentación general de una novedad considerando los deseos de los clientes</dc:description>
  <dc:language>en-US</dc:language>
  <cp:lastModifiedBy/>
  <dcterms:modified xsi:type="dcterms:W3CDTF">2012-11-25T11:26:27Z</dcterms:modified>
  <cp:revision>4</cp:revision>
  <dc:subject/>
  <dc:title>Presentación de una novedad</dc:title>
</cp:coreProperties>
</file>