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69CD-21A4-4246-9F1A-0241017C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CC8-57E0-433C-ABE7-AB04F87032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feed back to:   webmaster@USCitizenshipTeachers.org                 More materials on St. Patrick at   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5BF-6E48-499A-9F42-82B386ED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18D-B5B1-4BEE-AB8B-5613F35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51F-B246-4C32-A530-B16767A3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38B-E943-4A37-9EBB-895CDC04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111-67F6-440B-A191-BD7E281E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E8A-5FBA-41FF-AF96-F58ACA96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1DC-2E31-4BC5-888B-94A0A954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623-B434-4839-99A5-9789A860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A21-FE16-4FBF-A9B2-54A9D722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2B9-902D-4FB4-BAAC-2AC0BF3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C62-82EE-4D06-A000-AF5BA30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E50-B8D3-4CFB-BA17-EF54D37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2B7-F58E-4766-B3DA-D7AD4E577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Saint Patrick’s Da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76760" y="640080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on Fi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2400" r="3097" b="2400"/>
          <a:stretch/>
        </p:blipFill>
        <p:spPr>
          <a:xfrm>
            <a:off x="2357280" y="1295280"/>
            <a:ext cx="420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30372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miling_4_leaf_clover"/>
          <p:cNvPicPr/>
          <p:nvPr/>
        </p:nvPicPr>
        <p:blipFill>
          <a:blip r:embed="rId2"/>
          <a:stretch/>
        </p:blipFill>
        <p:spPr>
          <a:xfrm>
            <a:off x="5105520" y="22860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81280" y="5943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Leaf Clover = Good Lu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0" r="1600" b="0"/>
          <a:stretch/>
        </p:blipFill>
        <p:spPr>
          <a:xfrm>
            <a:off x="3352680" y="1066680"/>
            <a:ext cx="5623200" cy="3810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80880" y="30492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orn in 387 AD in Scotland (or Whale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666880"/>
            <a:ext cx="198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ther was a Deacon in the Chu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2"/>
          <a:srcRect l="0" t="0" r="3158" b="0"/>
          <a:stretch/>
        </p:blipFill>
        <p:spPr>
          <a:xfrm>
            <a:off x="2727360" y="2590920"/>
            <a:ext cx="378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65640" y="380880"/>
            <a:ext cx="367344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182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dnapped by Pi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6212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age 1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" y="57452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n to Irel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1295280" y="1933560"/>
            <a:ext cx="2857680" cy="3476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 rot="19419600">
            <a:off x="2095560" y="32385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952880" y="57913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d as a Sl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0" r="2314" b="0"/>
          <a:stretch/>
        </p:blipFill>
        <p:spPr>
          <a:xfrm>
            <a:off x="609480" y="990720"/>
            <a:ext cx="563904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182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Took Care of She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1676520"/>
            <a:ext cx="228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Learned the Languag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324480" y="228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6 ye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5562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oice spoke to him in a dream,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85800" y="6126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hip is waiting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1480" y="2400480"/>
            <a:ext cx="3407040" cy="36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rcRect l="0" t="0" r="2546" b="0"/>
          <a:stretch/>
        </p:blipFill>
        <p:spPr>
          <a:xfrm>
            <a:off x="685800" y="990720"/>
            <a:ext cx="3498840" cy="3838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hip Took Patrick to Brita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44000">
            <a:off x="1447560" y="236196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3946200">
            <a:off x="1828440" y="338292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572000" y="12193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Studied for 16 years in F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33520" y="507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other dream, “Come and walk among us again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13537200">
            <a:off x="944280" y="3612960"/>
            <a:ext cx="2286000" cy="304920"/>
          </a:xfrm>
          <a:prstGeom prst="rightArrow">
            <a:avLst>
              <a:gd name="adj1" fmla="val 50000"/>
              <a:gd name="adj2" fmla="val 187426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3229200" cy="406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ed Many Irish to Chri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267080" y="12193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 used the Shamrock as an example of the Trinit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2895840" cy="28764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 flipV="1">
            <a:off x="2666880" y="3276360"/>
            <a:ext cx="198144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2666880" y="4495680"/>
            <a:ext cx="198144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286000" y="4191120"/>
            <a:ext cx="3808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41008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324480" y="411480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esus (S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952880" y="431172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24280" y="6095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G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Died March 17, 46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0" t="0" r="2000" b="0"/>
          <a:stretch/>
        </p:blipFill>
        <p:spPr>
          <a:xfrm>
            <a:off x="2514600" y="1066680"/>
            <a:ext cx="3808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Irish Lege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6476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rick made the snakes leave Ire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prechauns are little, magic people that grant wis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is a pot of gold at the end of the rainb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rcRect l="0" t="0" r="3322" b="0"/>
          <a:stretch/>
        </p:blipFill>
        <p:spPr>
          <a:xfrm>
            <a:off x="6407280" y="533520"/>
            <a:ext cx="24318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rcRect l="0" t="0" r="2527" b="0"/>
          <a:stretch/>
        </p:blipFill>
        <p:spPr>
          <a:xfrm>
            <a:off x="990720" y="4191120"/>
            <a:ext cx="259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t. Patrick’s Day Custo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ar gre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nches for no gr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t corned be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3200" b="0"/>
          <a:stretch/>
        </p:blipFill>
        <p:spPr>
          <a:xfrm>
            <a:off x="5486400" y="876240"/>
            <a:ext cx="276552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rcRect l="0" t="0" r="3138" b="0"/>
          <a:stretch/>
        </p:blipFill>
        <p:spPr>
          <a:xfrm>
            <a:off x="4419720" y="3962520"/>
            <a:ext cx="3203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23:49:37Z</dcterms:created>
  <dc:creator>Don</dc:creator>
  <dc:description/>
  <dc:language>en-US</dc:language>
  <cp:lastModifiedBy>Amaya Gómez</cp:lastModifiedBy>
  <dcterms:modified xsi:type="dcterms:W3CDTF">2015-03-15T11:27:54Z</dcterms:modified>
  <cp:revision>6</cp:revision>
  <dc:subject/>
  <dc:title>Saint Patrick’s Day</dc:title>
</cp:coreProperties>
</file>