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8FF5-1008-4A07-97D1-5B500195B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9B57-535E-41C8-83AE-CCBAAC223A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feed back to:   webmaster@USCitizenshipTeachers.org                 More materials on St. Patrick at   http://www.elcivic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A08D-4CE6-46D9-A91D-8911CDC5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709D-D0BA-48C9-AC02-51D89C73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E5B-55D6-44ED-AD12-1890852F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8B3B-4851-446D-B935-414D4970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A569-4212-411F-AF2A-361BF8CC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AC0-4144-449A-8B8C-6A75C59C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FA3-3213-448B-B31F-FBAD3E44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E68-AE9C-4C6A-AB85-5330A916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4CF-A164-48F2-AB29-F5101CBF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194-16B8-4D7A-A981-2D0B5E7D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98CB-7A26-4792-B76E-FBAD5020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6F2-3A19-430E-A9BC-01A704FC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AC83-E53D-4DC2-AD9B-630F932628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Saint Patrick’s Day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476760" y="6400800"/>
            <a:ext cx="2819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Don Fis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rcRect l="0" t="2400" r="3097" b="2400"/>
          <a:stretch/>
        </p:blipFill>
        <p:spPr>
          <a:xfrm>
            <a:off x="2357280" y="1295280"/>
            <a:ext cx="4206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303720" cy="3810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miling_4_leaf_clover"/>
          <p:cNvPicPr/>
          <p:nvPr/>
        </p:nvPicPr>
        <p:blipFill>
          <a:blip r:embed="rId2"/>
          <a:stretch/>
        </p:blipFill>
        <p:spPr>
          <a:xfrm>
            <a:off x="5105520" y="22860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3581280" y="5943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 Leaf Clover = Good Lu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rcRect l="0" t="0" r="1600" b="0"/>
          <a:stretch/>
        </p:blipFill>
        <p:spPr>
          <a:xfrm>
            <a:off x="3352680" y="1066680"/>
            <a:ext cx="5623200" cy="3810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80880" y="30492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orn in 387 AD in Scotland (or Whale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57200" y="2666880"/>
            <a:ext cx="198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ther was a Deacon in the Chur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2"/>
          <a:srcRect l="0" t="0" r="3158" b="0"/>
          <a:stretch/>
        </p:blipFill>
        <p:spPr>
          <a:xfrm>
            <a:off x="2727360" y="2590920"/>
            <a:ext cx="3786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165640" y="380880"/>
            <a:ext cx="3673440" cy="4876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62120" y="1825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idnapped by Pi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76212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age 16 yea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85800" y="574524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en to Irela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1295280" y="1933560"/>
            <a:ext cx="2857680" cy="34765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9"/>
          <p:cNvSpPr/>
          <p:nvPr/>
        </p:nvSpPr>
        <p:spPr>
          <a:xfrm rot="19419600">
            <a:off x="2095560" y="323856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952880" y="57913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d as a Sla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0" r="2314" b="0"/>
          <a:stretch/>
        </p:blipFill>
        <p:spPr>
          <a:xfrm>
            <a:off x="609480" y="990720"/>
            <a:ext cx="5639040" cy="4325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62120" y="1825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rick Took Care of Shee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553080" y="1676520"/>
            <a:ext cx="228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Learned the Languag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324480" y="2286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6 yea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85800" y="5562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voice spoke to him in a dream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685800" y="6126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 ship is waiting.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181480" y="2400480"/>
            <a:ext cx="3407040" cy="369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rcRect l="0" t="0" r="2546" b="0"/>
          <a:stretch/>
        </p:blipFill>
        <p:spPr>
          <a:xfrm>
            <a:off x="685800" y="990720"/>
            <a:ext cx="3498840" cy="3838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8580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hip Took Patrick to Brit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 rot="20844000">
            <a:off x="1447560" y="236196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 rot="3946200">
            <a:off x="1828440" y="3382920"/>
            <a:ext cx="1981080" cy="304920"/>
          </a:xfrm>
          <a:prstGeom prst="rightArrow">
            <a:avLst>
              <a:gd name="adj1" fmla="val 50000"/>
              <a:gd name="adj2" fmla="val 162426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572000" y="12193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Studied for 16 years in Franc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533520" y="507528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other dream, “Come and walk among us again.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 rot="13537200">
            <a:off x="944280" y="3612960"/>
            <a:ext cx="2286000" cy="304920"/>
          </a:xfrm>
          <a:prstGeom prst="rightArrow">
            <a:avLst>
              <a:gd name="adj1" fmla="val 50000"/>
              <a:gd name="adj2" fmla="val 187426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09480" y="1266840"/>
            <a:ext cx="3229200" cy="4067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68580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ed Many Irish to Chri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267080" y="1219320"/>
            <a:ext cx="449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used the Shamrock as an example of the Trinit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2895840" cy="2876400"/>
          </a:xfrm>
          <a:prstGeom prst="rect">
            <a:avLst/>
          </a:prstGeom>
          <a:ln w="0">
            <a:noFill/>
          </a:ln>
        </p:spPr>
      </p:pic>
      <p:sp>
        <p:nvSpPr>
          <p:cNvPr id="80" name="Line 8"/>
          <p:cNvSpPr/>
          <p:nvPr/>
        </p:nvSpPr>
        <p:spPr>
          <a:xfrm flipV="1">
            <a:off x="2666880" y="3276360"/>
            <a:ext cx="198144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2666880" y="4495680"/>
            <a:ext cx="198144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2286000" y="4191120"/>
            <a:ext cx="3808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5410080" y="3352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6324480" y="411480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esus (S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4952880" y="431172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ly Spi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724280" y="6095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ne G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8580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rick Died March 17, 46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rcRect l="0" t="0" r="2000" b="0"/>
          <a:stretch/>
        </p:blipFill>
        <p:spPr>
          <a:xfrm>
            <a:off x="2514600" y="1066680"/>
            <a:ext cx="38084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39625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Irish Legen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6476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rick made the snakes leave Ire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prechauns are little, magic people that grant wis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is a pot of gold at the end of the rainb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rcRect l="0" t="0" r="3322" b="0"/>
          <a:stretch/>
        </p:blipFill>
        <p:spPr>
          <a:xfrm>
            <a:off x="6407280" y="533520"/>
            <a:ext cx="2431800" cy="434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rcRect l="0" t="0" r="2527" b="0"/>
          <a:stretch/>
        </p:blipFill>
        <p:spPr>
          <a:xfrm>
            <a:off x="990720" y="4191120"/>
            <a:ext cx="2598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t. Patrick’s Day Custom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ople wear gre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nches for no gr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t corned bee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3200" b="0"/>
          <a:stretch/>
        </p:blipFill>
        <p:spPr>
          <a:xfrm>
            <a:off x="5486400" y="876240"/>
            <a:ext cx="2765520" cy="285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rcRect l="0" t="0" r="3138" b="0"/>
          <a:stretch/>
        </p:blipFill>
        <p:spPr>
          <a:xfrm>
            <a:off x="4419720" y="3962520"/>
            <a:ext cx="32032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23:49:37Z</dcterms:created>
  <dc:creator>Don</dc:creator>
  <dc:description/>
  <dc:language>en-US</dc:language>
  <cp:lastModifiedBy>Amaya Gómez</cp:lastModifiedBy>
  <dcterms:modified xsi:type="dcterms:W3CDTF">2015-03-15T11:27:54Z</dcterms:modified>
  <cp:revision>6</cp:revision>
  <dc:subject/>
  <dc:title>Saint Patrick’s Day</dc:title>
</cp:coreProperties>
</file>