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025-4C1A-4AF4-8762-134023DA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13B-37AC-4267-B260-DA5066A9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BDFEC-3A91-43E0-ACB1-8FC281DD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80C23-C352-444F-B3FA-F3B870CE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80E9B-D774-4891-ABCC-D3AA462F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09E43-7692-457E-AD36-4F57D81C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2A9B9-675E-4BF2-BB3E-6C02A398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48524-B83A-482B-AF88-B57F7C2F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2F898-0862-4AF6-914B-E2E3FF28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68C55-9AEA-40DF-95AA-5FAA2405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7F29B-B5A9-4B2D-ABFA-B3CCEC84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C7685-B9CB-4278-BD7A-9DE92286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6C2-3D96-4202-A174-CCF9C0E0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DCA7A-E2F6-411F-AC4D-121FFDCE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B4761-996D-4928-8E35-E3E4FB85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E1C4B-12AE-493C-A3AA-BB94322F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71581-3E30-4D26-88E9-C3B6E27F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B4735-67AE-4B5B-9E32-1DBBC500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063A2-4F07-4E54-A3BA-BFD9C37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497366-3CCD-4BC9-B2F3-39FE494D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A0E5A-8321-43FF-8200-A148284D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E35E6-1F26-497C-B700-AD7E031F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CF90D-D905-417D-BA26-8A6BEDA1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8BF-E0F4-4618-B31B-3BFEFB81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38B8A-60F6-4CA6-80C1-628A3E65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A2275-49B2-4E90-A726-48024B2F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9E997-B1FE-4C8C-8302-E2B948A2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89A09-940C-4AB3-9009-12424871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7F3C8-0CD9-40C8-99FC-073D0915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9134E-B6B7-4C73-BA9B-2A81E864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69913-3D80-478E-9524-594C2EB1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7C21D-C1FE-47A4-86D1-59F20319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ADFC9-58C1-46AD-B86F-E03E259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BEC22-09E8-4E73-BE6A-A0E6FDBB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BEAE-15D4-4334-842A-A6DD4AEA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8BCBE-678D-48CB-A93A-5A53EC63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FF003-AC9F-476A-8C17-8100B017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EA123-D1BC-47EA-8924-65DC01D0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687FA-C647-42F3-87E7-AFC7E312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C7E3A-B8B3-451A-8F7E-8902D9DD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7F091-EB22-4178-A927-BCD09393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EBD9E-F82A-4CBD-A96C-0B32F196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1A26C-D8B9-4B71-80B8-3C1C00B4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956C9-2886-47BE-896D-1C375C47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A3F26-C931-4D47-B30D-9CF4A75D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DD0F-F29D-499C-94DA-D123EE85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DEB8D-A11D-45DE-9C97-FBAD8398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04A5DF-DF4F-4AE1-8A73-F0F21F5A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D50BC-0D56-4B48-BCFB-3978C2F0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9CFEF-F971-433C-8CFD-49677C31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01D742-B49C-48CA-8E3E-B76BFB2E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694F-13AE-4DD2-A3E3-C2AC89BC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5CD0-541D-403C-94FD-82160E9C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6F80-B1BC-4C9C-92AF-B1646C2F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11FE-F9A4-4EFB-A9B1-AD92616A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1F52-15D6-404D-8274-52260FEE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374-2E60-4FE0-9FC9-9DB8ADF0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DFE2-B83E-4653-9284-E5A7F821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8D11-BAEC-49B5-A85A-124D8512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722D-B8E8-4B95-8151-698E9E1C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0913-7089-428B-881D-42721C9D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351C-64D9-4285-87FC-8245DDA9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34E2-E53F-4D51-A2AD-B0C98094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7DE90-0C52-458A-A243-AD4AF209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43A8-D931-47B2-9410-6948D11F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DBB8-6CD7-45A9-958A-6AB13BB1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E6EB-D72F-45E9-90B8-C8C128FB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7C3-D0E0-496E-8615-F121226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315A3-CBC3-4A72-8C3A-F675D18E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D08C8-1344-479A-B5BD-34FA8F23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DB75-A4BF-45A5-9A35-2434E000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6DFC-1E52-49BB-BB7C-59FED1A1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FFF6-6136-412D-871E-A7AB235D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2609F-2891-4DDD-AECC-2D1D5E54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3BE49-9D6A-4673-8F93-C801E5FD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CE80E-76E5-4A1F-8903-C5B8BE9D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D33D0-9D0C-4071-A62D-33406AD8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F0F1-FFAD-482A-9422-CB22F94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C6B-8816-469D-94DC-75903E80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5FCD1-D453-42E4-80C2-707622FD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9397-3928-452E-9FE8-9787D314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A843D-C87B-494F-9C75-1A6504A0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247C8-C9DD-425E-A9D4-4DAF9C5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E8B8-36DF-46F0-82FA-075F3E85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AAD8F-E63F-4A16-97BC-D9FA5C46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2755-3275-40E6-A8B1-7629E051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E645-47F5-4ED7-A0E4-6A1477F5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BDA79-35F1-4AE5-8622-1E7DA6CF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56DE3-8A56-4D7A-B1DB-9BA95ADF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9CC-ED0C-42FA-ADD5-A9C224F4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4187E-071B-4C62-8DE7-CB4FE2D2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F0056-936D-474B-9DFF-62856DEA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239C-D42D-4862-A78E-E77FC39B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BAEA-40E6-4CE2-9B83-DD4F569F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70EB4-12A4-4BC4-A866-F69F56EA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03316-F39A-470D-9E1E-DD9371A7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D3929-E513-46DC-9996-F424F36E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BAA9F-F6B9-4BC5-B401-73F5143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B5DC5-75DA-4150-BCC4-CF9A3C7E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3902A-AED7-4978-AFCD-3672CA3B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F16-E1E1-4F7D-8304-DA8416A5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DF116-0331-4C85-8C65-1770F96A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FBF70-08C5-4D59-A03E-785F5139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5E6C-7D58-45ED-97CC-B90D9A4D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56E74-A11E-4FED-A2A0-DE128E85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D60E0-79C1-4EE6-B24B-E6A70D1A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DE7E2-8078-43DE-92FF-1A3BBD3C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B28EE-F755-4953-9D95-569F95EE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0F455-353E-4A16-AAB7-A905DA6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8A44C-85CF-47B6-A76F-EE6803C1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D531F-360F-404E-9BE6-D5B3C168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FF9-8BB2-41E4-A617-79E0A24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3A1BF-B285-44EE-9A8B-AF89F168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2980D-9637-408A-9E4A-582783DD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DDB64-DD18-40D0-A4C3-0044EE55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2602C-6A05-4167-A62A-065D5CF0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7F3A0-8496-4A13-A555-8B03CEA1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456BD-9089-4B48-905A-3ABCE4F2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05665-9471-448C-9893-1747CAF3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24B45-DC21-4C01-AC4C-07010C8A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49F1D-509E-45B4-9AF8-E25970E0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F71AF-03F1-40A7-9A6C-9ED28ED8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C14-A752-47E6-A9E5-DF6672DA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C338A-2037-4FA7-BFFD-D0D58FD3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F1E5F-54AD-44B2-946F-5839A7AB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232ED-4100-4DA6-A0E2-ED8AED7C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F1FC8-9DC4-4862-8CD2-2D937975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3FB0F-1966-4085-A8CC-CBE06800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B118D-7EA8-4550-9E29-7BB1A2D5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5CA58-F4D2-43EA-92BB-F46E50E7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3AEF4-83BE-4B72-A9CE-4623803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BC0BF-A661-44FD-915C-DE909E7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8E84A-28A5-45F0-AE17-7943EBD4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F29-EB5E-4A14-BE66-21B4D298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E3E1E-8AD1-420D-9E4C-4FD9D191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C5372-78E9-4540-9DC6-DC4D43AD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8A9EC-16FC-495E-A666-02B5817F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D50E9-2FBA-4B60-B789-BC166B1A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3DACC-F1D1-4B3A-8B15-BBB33DFC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74881-768B-4902-99F1-4836ADD8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B69F1-41FE-44AB-9506-23A15A45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984FE-7594-48B6-8776-C4A78319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C77C4-7ACF-4230-B79A-569053EE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22564-F9AB-46E0-9096-975BA5BD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A1A4-4A25-4545-8AA2-C385DD829C29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629F-D9C6-4BCD-84C9-66A69189C030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FAB4-32BF-4C3F-9276-D0808A3FE1A0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B818-11D8-4FD8-BAA2-C9DBF4A3C411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AA3D-478B-4E6D-AFAB-331E33FC84B9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F40C-24C3-4815-BBF2-0769C71647EE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6E0A-BDC8-477B-BC0C-EBB0D1743168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91C3-EFE5-4C58-931D-63A1308355F8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55B3-B17B-47C4-B471-74F56E36559D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3249-48E7-4BEE-B3C8-359991FC54D1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B99B-A829-4ABC-91A9-4E480B5BDA2B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9FF3-4694-4079-863A-A8ADE2953DC5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8" descr="http://earthquake.usgs.gov/earthquakes/world/events/images/1960_05_22_hilo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89308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800" spc="-1" strike="noStrike">
                <a:solidFill>
                  <a:srgbClr val="00ffff"/>
                </a:solidFill>
                <a:latin typeface="Century Gothic"/>
              </a:rPr>
              <a:t>Valdivia’s Earthquake</a:t>
            </a:r>
            <a:endParaRPr b="0" lang="en-US" sz="5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179280" y="3213000"/>
            <a:ext cx="8496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Joel Jara C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Rebeca García Co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Carlos San Martí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7" descr="C:\Users\JOEL\Pictures\r-CHINA-EARTHQUAKE-2013-large570.jpg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1989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C:\Users\JOEL\Pictures\imagese.jpg"/>
          <p:cNvPicPr/>
          <p:nvPr/>
        </p:nvPicPr>
        <p:blipFill>
          <a:blip r:embed="rId2"/>
          <a:stretch/>
        </p:blipFill>
        <p:spPr>
          <a:xfrm>
            <a:off x="4788000" y="1989000"/>
            <a:ext cx="3984480" cy="4869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C:\Users\JOEL\Pictures\index.jpg"/>
          <p:cNvPicPr/>
          <p:nvPr/>
        </p:nvPicPr>
        <p:blipFill>
          <a:blip r:embed="rId3"/>
          <a:stretch/>
        </p:blipFill>
        <p:spPr>
          <a:xfrm>
            <a:off x="0" y="3645000"/>
            <a:ext cx="4979880" cy="32130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C:\Users\JOEL\Pictures\images.jpg"/>
          <p:cNvPicPr/>
          <p:nvPr/>
        </p:nvPicPr>
        <p:blipFill>
          <a:blip r:embed="rId4"/>
          <a:stretch/>
        </p:blipFill>
        <p:spPr>
          <a:xfrm>
            <a:off x="0" y="0"/>
            <a:ext cx="4788000" cy="3676680"/>
          </a:xfrm>
          <a:prstGeom prst="rect">
            <a:avLst/>
          </a:prstGeom>
          <a:ln w="0">
            <a:noFill/>
          </a:ln>
        </p:spPr>
      </p:pic>
      <p:sp>
        <p:nvSpPr>
          <p:cNvPr id="646" name="7 CuadroTexto"/>
          <p:cNvSpPr/>
          <p:nvPr/>
        </p:nvSpPr>
        <p:spPr>
          <a:xfrm>
            <a:off x="5003640" y="59500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entury Gothic"/>
              </a:rPr>
              <a:t>- It was a huge catastrop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http://1.bp.blogspot.com/-jZOdB1tnfY4/T7qMhHg414I/AAAAAAAACj8/1xq5MsLjbZQ/s1600/Cuadro-Negro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http://classes.dma.ucla.edu/Spring06/161A/projects/chris/research/conclusion.gif"/>
          <p:cNvPicPr/>
          <p:nvPr/>
        </p:nvPicPr>
        <p:blipFill>
          <a:blip r:embed="rId2"/>
          <a:stretch/>
        </p:blipFill>
        <p:spPr>
          <a:xfrm>
            <a:off x="900000" y="0"/>
            <a:ext cx="7128000" cy="4929120"/>
          </a:xfrm>
          <a:prstGeom prst="rect">
            <a:avLst/>
          </a:prstGeom>
          <a:ln w="0">
            <a:noFill/>
          </a:ln>
        </p:spPr>
      </p:pic>
      <p:sp>
        <p:nvSpPr>
          <p:cNvPr id="649" name="6 CuadroTexto"/>
          <p:cNvSpPr/>
          <p:nvPr/>
        </p:nvSpPr>
        <p:spPr>
          <a:xfrm>
            <a:off x="1547640" y="443700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Our conclusion  is that the Valdivia earthquake was very  destructive  and it might happen ag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1" name="Picture 2" descr="http://blogfiles.wfmu.org/KF/2010/08/25/gif_the_end320.gif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8" descr="terremot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692280"/>
            <a:ext cx="5256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Century Gothic"/>
              </a:rPr>
              <a:t>Introduction</a:t>
            </a:r>
            <a:endParaRPr b="0" lang="en-US" sz="6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324000" y="2492280"/>
            <a:ext cx="36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ff"/>
                </a:solidFill>
                <a:latin typeface="Century Gothic"/>
              </a:rPr>
              <a:t>-We are going to talk abou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796000" y="2852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7 CuadroTexto"/>
          <p:cNvSpPr/>
          <p:nvPr/>
        </p:nvSpPr>
        <p:spPr>
          <a:xfrm>
            <a:off x="5364000" y="5013360"/>
            <a:ext cx="32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entury Gothic"/>
              </a:rPr>
              <a:t>Valdivia Earthqu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9" descr="http://t1.gstatic.com/images?q=tbn:ANd9GcTnubJs5lrcJf5YbfO-NdkEaRvklE4XkZizST0Drwiyuwbgzv8dX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9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entury Gothic"/>
              </a:rPr>
              <a:t>General Location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862080" cy="4680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7"/>
          <p:cNvSpPr/>
          <p:nvPr/>
        </p:nvSpPr>
        <p:spPr>
          <a:xfrm>
            <a:off x="4751280" y="28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The star represent the epic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6" descr="http://static.freepik.com/foto-gratis/fondo-de-pantalla-de-color-naranja_21167649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265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entury Gothic"/>
              </a:rPr>
              <a:t>Tectonic Plates Map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755640" y="1511280"/>
            <a:ext cx="7415280" cy="491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5" descr="largest-earthquake-tsunami-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2 Flecha derecha"/>
          <p:cNvSpPr/>
          <p:nvPr/>
        </p:nvSpPr>
        <p:spPr>
          <a:xfrm rot="20487600">
            <a:off x="5254560" y="4595400"/>
            <a:ext cx="3303720" cy="1224000"/>
          </a:xfrm>
          <a:prstGeom prst="rightArrow">
            <a:avLst>
              <a:gd name="adj1" fmla="val 52278"/>
              <a:gd name="adj2" fmla="val 40737"/>
            </a:avLst>
          </a:prstGeom>
          <a:solidFill>
            <a:srgbClr val="00fff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3 CuadroTexto"/>
          <p:cNvSpPr/>
          <p:nvPr/>
        </p:nvSpPr>
        <p:spPr>
          <a:xfrm rot="20493000">
            <a:off x="5434920" y="4941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Gothic"/>
              </a:rPr>
              <a:t>Epi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4 Flecha derecha"/>
          <p:cNvSpPr/>
          <p:nvPr/>
        </p:nvSpPr>
        <p:spPr>
          <a:xfrm>
            <a:off x="2843280" y="2852640"/>
            <a:ext cx="3529080" cy="1152720"/>
          </a:xfrm>
          <a:prstGeom prst="rightArrow">
            <a:avLst>
              <a:gd name="adj1" fmla="val 50000"/>
              <a:gd name="adj2" fmla="val 0"/>
            </a:avLst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5 CuadroTexto"/>
          <p:cNvSpPr/>
          <p:nvPr/>
        </p:nvSpPr>
        <p:spPr>
          <a:xfrm>
            <a:off x="3276720" y="306864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Tsun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16" descr="http://www.pinturas-online.com/images/color-17-ocre-oscuro-Textoner.jpg"/>
          <p:cNvPicPr/>
          <p:nvPr/>
        </p:nvPicPr>
        <p:blipFill>
          <a:blip r:embed="rId1"/>
          <a:stretch/>
        </p:blipFill>
        <p:spPr>
          <a:xfrm>
            <a:off x="0" y="0"/>
            <a:ext cx="931536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foco-y-epicentro-de-los-terremotos"/>
          <p:cNvPicPr/>
          <p:nvPr/>
        </p:nvPicPr>
        <p:blipFill>
          <a:blip r:embed="rId2"/>
          <a:stretch/>
        </p:blipFill>
        <p:spPr>
          <a:xfrm>
            <a:off x="611280" y="765000"/>
            <a:ext cx="7667640" cy="575172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6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entury Gothic"/>
              </a:rPr>
              <a:t>Why did it occur?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0" y="4365720"/>
            <a:ext cx="31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Because of the moving of the Nazca Plate and Southern      American 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7" descr="http://alquilerpistasdepadel.com/wp-content/uploads/2012/04/verde-manza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22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7b9899"/>
                </a:solidFill>
                <a:latin typeface="Century Gothic"/>
              </a:rPr>
              <a:t>Dissasters Produced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23640" y="1700280"/>
            <a:ext cx="48862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20,000 people homeles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6,000 dea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Tsunami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5" descr="Terremoto"/>
          <p:cNvPicPr/>
          <p:nvPr/>
        </p:nvPicPr>
        <p:blipFill>
          <a:blip r:embed="rId2"/>
          <a:stretch/>
        </p:blipFill>
        <p:spPr>
          <a:xfrm>
            <a:off x="2843280" y="2637000"/>
            <a:ext cx="5580000" cy="380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9" descr="http://www.revistapioneros.com/wp-content/uploads/2012/08/11058197-azul-turquesa-formentera-ondulacion-del-agua-en-la-playa-de-illetes-si-balea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66"/>
                </a:solidFill>
                <a:latin typeface="Century Gothic"/>
              </a:rPr>
              <a:t>Could it happen again?</a:t>
            </a:r>
            <a:endParaRPr b="0" lang="en-US" sz="5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042920" y="2637000"/>
            <a:ext cx="785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684360" y="170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Yes, because it is near bou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7" descr="C:\Users\JOEL\Pictures\imagews.jpg"/>
          <p:cNvPicPr/>
          <p:nvPr/>
        </p:nvPicPr>
        <p:blipFill>
          <a:blip r:embed="rId2"/>
          <a:stretch/>
        </p:blipFill>
        <p:spPr>
          <a:xfrm>
            <a:off x="0" y="2492280"/>
            <a:ext cx="8172360" cy="436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http://www.andaluzadearteymanualidades.es/Catalogo/0305000.JPG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40" name="3 CuadroTexto"/>
          <p:cNvSpPr/>
          <p:nvPr/>
        </p:nvSpPr>
        <p:spPr>
          <a:xfrm>
            <a:off x="179280" y="263700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Richter scale: 9´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ercalli scale: XI and 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In Valdivia there was a flood of the nearest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4 CuadroTexto"/>
          <p:cNvSpPr/>
          <p:nvPr/>
        </p:nvSpPr>
        <p:spPr>
          <a:xfrm>
            <a:off x="395280" y="18900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Info. About 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Earthqu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2:37:48Z</dcterms:created>
  <dc:creator>CM</dc:creator>
  <dc:description/>
  <dc:language>en-US</dc:language>
  <cp:lastModifiedBy>JOEL</cp:lastModifiedBy>
  <dcterms:modified xsi:type="dcterms:W3CDTF">2013-05-21T17:56:04Z</dcterms:modified>
  <cp:revision>14</cp:revision>
  <dc:subject/>
  <dc:title>Valdivia’s Earthquake</dc:title>
</cp:coreProperties>
</file>