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C32-779D-46FF-A6DD-8DC6D2D2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B3C-2B93-4111-A729-6CF7FFDB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C78D0-0321-4187-B350-60C3EA24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7915A-305D-4ED9-826D-30A3BC81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315AB-199C-42EB-B069-16E136E2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5ECB3-975D-49BD-BF52-07460144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FE87B-B0D8-4146-91EB-FD4FB0EB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FA7F2-3265-4B11-A13B-548069CC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A2408-A6A8-49CE-B735-79AD78AB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4DFB3-F7AD-4311-8475-7220E6C2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441BB-D975-415A-8C48-5A77C890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39AEA-A0EA-4F6F-AA69-B7AF8339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920-42BB-4416-A59D-1C56C094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654CD-34CE-4916-A284-52E244F8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EC38A-D2CD-45A0-AC92-28D5D9D5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4A3BF-42CF-4590-B8E8-CC38B183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E5C7A-B29A-4F02-AD17-A6D3BD6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AE6DA-EF32-4F07-A33A-A9B2D8FF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02FFD-97D0-4F21-A4C4-D78073E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65B18-6C81-4E01-979D-E439D0E4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D76A0-7BED-48ED-8CB3-91830D2E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C982E-ECC3-48FB-8E50-627184E5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43767-2C6B-4F74-BEDD-FB406FA4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EDB-1FD2-4CE0-A397-4AD72E72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BBEF5-0D42-4135-94EB-814780FA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E500D-210E-4E3F-88CA-16B19CCB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488B1-052C-4C2E-B343-54971141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1D894-A80B-40E6-8583-28AE40A4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06811-857C-41C8-AFE8-971E1E56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18616-C729-416A-84C4-69082EFC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9E0AC-C3BE-4FD4-BBB3-7A17C482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9CA44-789A-40EA-A772-D96C3E2C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E3444-3657-4F57-9FE0-168225D2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79CDE-3F10-4472-8177-6411741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A093-CAD3-4CAB-9C46-D920E567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BC594-931D-4362-A3A5-3B044F13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198D3-D56A-42CE-8CD9-5AA589C2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0B33D-62AD-4BDA-9677-A06DEBFE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D13C0-0446-4450-88B3-5D2DCC6A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20795-3353-49D9-B09C-A252DF7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BDE91-F944-432E-857A-A96C4F48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01EB5-C33E-458A-9389-BF2A0F0F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5122D-418A-4979-B6FB-97D6A913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CA391-AFE0-45A6-849A-12E04373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BBEED-DA90-4801-8A14-ECEC17D4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4E71-23A2-4DCB-85E6-C16CBD9E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0B83B-DAE7-4B17-965C-43D0ABC2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080CC-D32F-4E36-A5C8-19E0E019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3B9A5-4344-4196-8034-54862090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CCEF3-E9B4-40B6-BFF3-55985788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FE99B-5E84-4010-99F6-1C6612CD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6B07-1D55-459D-AE58-943DC90C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59DE-8062-48B6-8A64-B4BFAA4F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C080-2986-40D3-9C3D-68D573EF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41E7-5E2C-48F0-9A21-8C24368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EC56-F68C-4E77-962E-B94DF82D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0AE-2545-4D2B-8F66-FDE3844C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1F7D-85C0-4D16-93AE-B1B55A0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4F2F-A92D-4245-813A-CE00244C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0EA4-2697-45CD-8A41-BE7EF005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8586-E3F5-4513-BD9A-B301AFDF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5E97-8801-47DF-B74F-A999F4F6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CA428-9BE6-4A24-9504-B63D7131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E104-DE38-4F98-8426-D7C64A37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7903-8E96-4937-8FA4-C352001B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DBE9-11E8-4BB6-9EE8-94EAA905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093F8-D860-447C-9C25-A6B30C63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B89-489B-479E-9AB7-1362CDAA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E850-DCFE-4CD3-A267-BD39552E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BD8A-F0A8-491F-9B04-4175A89F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BF75-FE84-412D-BF58-CB5A9E90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1127-23CF-4174-8794-C1663877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124E1-095D-4E86-8507-D1F81D53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28BE-FEB5-4E8E-A936-F15E4142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83E0-6168-4E72-9D5F-D3A3FF20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45674-156D-4024-B6D1-A5A97944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B08AA-EFD1-474E-925A-7393F43C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94AF-C342-4E73-A16B-085E8D8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EC8-CEE3-433A-876E-C00E0137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D3BB6-A2B9-4109-BF5B-6823DBC3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2ED9D-C98F-4B28-9B11-7731EDC7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4935B-325A-416F-8EDB-6249E0C6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3572-8D4A-443A-BED4-13F3B89D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FF903-49EB-438C-9FC0-2EC36D25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B817-4C18-477D-8D12-0A359AE3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6ABD6-50EA-443C-B54C-D3B30DB8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1831-5960-488B-AD6C-77E8B8EB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1CB5-A316-4BCD-B2F4-15D813CD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11FD8-8860-4A1B-B5A0-F9BCF5F8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26F-CF3B-4B4A-86B7-730D2B16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A3E4F-5EC7-442E-9807-BD4BC266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BAC04-11DC-4F8C-A8E4-31878B6F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9899C-4FFA-491E-BE1F-4EE7D774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2D41A-38B8-417B-BB65-6F3CA5F0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161D7-284A-45E6-B96E-28A15989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DC6A-3148-40EB-A9E0-A8971D8A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49BB7-0810-41D9-87B5-2B01EC7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796DD-EADC-4549-AAEC-3514BBBF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D9093-7313-4940-931E-912DF9DD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D5950-496E-4D0C-824F-27E2B63B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28C-CF1D-44C1-92DE-B03BA8F4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E60B-BA50-41D1-8532-9D03FD50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331B8-0336-4423-948A-CEBC3ED8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C4647-BEFB-40DD-8F6E-CAB8BA46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AB49E-090A-4C16-9284-EA9525B7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00BB-0741-4EC2-87E7-B9F9B935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15F23-6D5F-4A14-B061-E043DE69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9428D-692D-4DCE-86B8-D8DDF6AD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BBE89-AFB3-4B29-BE00-58CDF785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63F3B-8221-46D3-AAF0-17C13A2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2906D-E415-408C-8B7B-8A62842F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C51-47F7-4413-A3FB-21CDD4D3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4C7E6-2B38-4D45-8BE0-B51AC771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ED976-4D87-4361-9668-71DB72FD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5AFBC-C45E-4599-9EE2-39056260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E2D6F-5E89-4024-AF1A-6AB4256F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2C62-4B2D-4B02-98FC-3F673F7B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DABD2-1871-4F72-A405-5C34434A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FB338-03D1-4F17-BC44-D2365801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36578-B0D4-4097-B129-A3A74810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2A54C-C2EC-4A06-8FE1-AC6192E0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B3277-2B9A-4A07-B60C-760DE597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F58-A441-4EBF-92AE-B31855DE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5F75D-4E65-4F63-A548-706A43D8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52BD1-FBE2-4A21-AB82-831B3A1D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5ED13-DEF9-4934-8163-150026FC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583F2-25F2-41CA-B8B5-BF253B0F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83325-7025-46C8-8A5D-7FF3E934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3D1BB-A796-4481-9480-9007DA7D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6B65B-B492-4551-ABF2-40DEFCCE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F2BC1-EE44-4A8A-9F4F-1E463AF0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8FA54-2EDF-405C-83A8-3691077F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C8F11-4FB4-433D-86C6-E533D483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CDE-1106-40CB-B8C3-7510A014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E490B-004E-4767-ADEA-B367C88E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11906-873F-475A-9445-31097B74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89FED-23BE-4002-B998-5546ADB0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82B54-9BB1-424F-BC3F-193A535A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5A821-D8B1-4700-B099-D25D260E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7C2C6-3803-4493-B2F5-A8690BF6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58824-70F9-4648-8B1C-9A843A29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86359-B1CC-44F7-8334-AFA21C5E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A8AB2-490E-4C22-B3EB-BC9E3A2D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089A6-DA66-4F6E-854E-9D0DBCEC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41B1-5FAA-41BC-A01C-7808EC8E8C5B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6562-B598-499B-AA45-59B3ED10D6AA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0A44-B6DA-497E-A05C-2B34DB1EBCDC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E8CC-36C7-4FB1-90CB-DA8A25920B89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CD26-BDE0-4F0B-8B92-4DA2EDCDA2B7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126E-FC7F-4EED-A653-91ADE4FA4E19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5DA7-15CF-402F-B865-71E485257F32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8D53-956F-4E89-A92C-26B24A6C9E29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E38F-8B83-4F02-AA4A-9B82D9D95B3A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EC07-4C40-4AD1-950C-98FF54AE0DEF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9AEF-ABAD-463B-981D-79D1A34D01B4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C9E2-EAF3-42BE-8FF3-C39249DE98A7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8" descr="http://earthquake.usgs.gov/earthquakes/world/events/images/1960_05_22_hilo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89308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800" spc="-1" strike="noStrike">
                <a:solidFill>
                  <a:srgbClr val="00ffff"/>
                </a:solidFill>
                <a:latin typeface="Century Gothic"/>
              </a:rPr>
              <a:t>Valdivia’s Earthquake</a:t>
            </a:r>
            <a:endParaRPr b="0" lang="en-US" sz="5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179280" y="3213000"/>
            <a:ext cx="8496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Joel Jara C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Rebeca García Co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Carlos San Martí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7" descr="C:\Users\JOEL\Pictures\r-CHINA-EARTHQUAKE-2013-large570.jpg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1989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C:\Users\JOEL\Pictures\imagese.jpg"/>
          <p:cNvPicPr/>
          <p:nvPr/>
        </p:nvPicPr>
        <p:blipFill>
          <a:blip r:embed="rId2"/>
          <a:stretch/>
        </p:blipFill>
        <p:spPr>
          <a:xfrm>
            <a:off x="4788000" y="1989000"/>
            <a:ext cx="3984480" cy="4869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C:\Users\JOEL\Pictures\index.jpg"/>
          <p:cNvPicPr/>
          <p:nvPr/>
        </p:nvPicPr>
        <p:blipFill>
          <a:blip r:embed="rId3"/>
          <a:stretch/>
        </p:blipFill>
        <p:spPr>
          <a:xfrm>
            <a:off x="0" y="3645000"/>
            <a:ext cx="4979880" cy="32130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C:\Users\JOEL\Pictures\images.jpg"/>
          <p:cNvPicPr/>
          <p:nvPr/>
        </p:nvPicPr>
        <p:blipFill>
          <a:blip r:embed="rId4"/>
          <a:stretch/>
        </p:blipFill>
        <p:spPr>
          <a:xfrm>
            <a:off x="0" y="0"/>
            <a:ext cx="4788000" cy="3676680"/>
          </a:xfrm>
          <a:prstGeom prst="rect">
            <a:avLst/>
          </a:prstGeom>
          <a:ln w="0">
            <a:noFill/>
          </a:ln>
        </p:spPr>
      </p:pic>
      <p:sp>
        <p:nvSpPr>
          <p:cNvPr id="646" name="7 CuadroTexto"/>
          <p:cNvSpPr/>
          <p:nvPr/>
        </p:nvSpPr>
        <p:spPr>
          <a:xfrm>
            <a:off x="5003640" y="59500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entury Gothic"/>
              </a:rPr>
              <a:t>- It was a huge catastrop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http://1.bp.blogspot.com/-jZOdB1tnfY4/T7qMhHg414I/AAAAAAAACj8/1xq5MsLjbZQ/s1600/Cuadro-Negro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http://classes.dma.ucla.edu/Spring06/161A/projects/chris/research/conclusion.gif"/>
          <p:cNvPicPr/>
          <p:nvPr/>
        </p:nvPicPr>
        <p:blipFill>
          <a:blip r:embed="rId2"/>
          <a:stretch/>
        </p:blipFill>
        <p:spPr>
          <a:xfrm>
            <a:off x="900000" y="0"/>
            <a:ext cx="7128000" cy="4929120"/>
          </a:xfrm>
          <a:prstGeom prst="rect">
            <a:avLst/>
          </a:prstGeom>
          <a:ln w="0">
            <a:noFill/>
          </a:ln>
        </p:spPr>
      </p:pic>
      <p:sp>
        <p:nvSpPr>
          <p:cNvPr id="649" name="6 CuadroTexto"/>
          <p:cNvSpPr/>
          <p:nvPr/>
        </p:nvSpPr>
        <p:spPr>
          <a:xfrm>
            <a:off x="1547640" y="443700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Our conclusion  is that the Valdivia earthquake was very  destructive  and it might happen ag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1" name="Picture 2" descr="http://blogfiles.wfmu.org/KF/2010/08/25/gif_the_end320.gif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8" descr="terremot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692280"/>
            <a:ext cx="5256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Century Gothic"/>
              </a:rPr>
              <a:t>Introduction</a:t>
            </a:r>
            <a:endParaRPr b="0" lang="en-US" sz="6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324000" y="2492280"/>
            <a:ext cx="36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ff"/>
                </a:solidFill>
                <a:latin typeface="Century Gothic"/>
              </a:rPr>
              <a:t>-We are going to talk abou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796000" y="2852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7 CuadroTexto"/>
          <p:cNvSpPr/>
          <p:nvPr/>
        </p:nvSpPr>
        <p:spPr>
          <a:xfrm>
            <a:off x="5364000" y="5013360"/>
            <a:ext cx="32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entury Gothic"/>
              </a:rPr>
              <a:t>Valdivia Earthqu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9" descr="http://t1.gstatic.com/images?q=tbn:ANd9GcTnubJs5lrcJf5YbfO-NdkEaRvklE4XkZizST0Drwiyuwbgzv8dX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9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entury Gothic"/>
              </a:rPr>
              <a:t>General Location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862080" cy="4680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7"/>
          <p:cNvSpPr/>
          <p:nvPr/>
        </p:nvSpPr>
        <p:spPr>
          <a:xfrm>
            <a:off x="4751280" y="28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The star represent the epic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6" descr="http://static.freepik.com/foto-gratis/fondo-de-pantalla-de-color-naranja_21167649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265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entury Gothic"/>
              </a:rPr>
              <a:t>Tectonic Plates Map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755640" y="1511280"/>
            <a:ext cx="7415280" cy="491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5" descr="largest-earthquake-tsunami-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2 Flecha derecha"/>
          <p:cNvSpPr/>
          <p:nvPr/>
        </p:nvSpPr>
        <p:spPr>
          <a:xfrm rot="20487600">
            <a:off x="5254560" y="4595400"/>
            <a:ext cx="3303720" cy="1224000"/>
          </a:xfrm>
          <a:prstGeom prst="rightArrow">
            <a:avLst>
              <a:gd name="adj1" fmla="val 52278"/>
              <a:gd name="adj2" fmla="val 40737"/>
            </a:avLst>
          </a:prstGeom>
          <a:solidFill>
            <a:srgbClr val="00fff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3 CuadroTexto"/>
          <p:cNvSpPr/>
          <p:nvPr/>
        </p:nvSpPr>
        <p:spPr>
          <a:xfrm rot="20493000">
            <a:off x="5434920" y="4941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Gothic"/>
              </a:rPr>
              <a:t>Epi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4 Flecha derecha"/>
          <p:cNvSpPr/>
          <p:nvPr/>
        </p:nvSpPr>
        <p:spPr>
          <a:xfrm>
            <a:off x="2843280" y="2852640"/>
            <a:ext cx="3529080" cy="1152720"/>
          </a:xfrm>
          <a:prstGeom prst="rightArrow">
            <a:avLst>
              <a:gd name="adj1" fmla="val 50000"/>
              <a:gd name="adj2" fmla="val 0"/>
            </a:avLst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5 CuadroTexto"/>
          <p:cNvSpPr/>
          <p:nvPr/>
        </p:nvSpPr>
        <p:spPr>
          <a:xfrm>
            <a:off x="3276720" y="306864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Tsun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16" descr="http://www.pinturas-online.com/images/color-17-ocre-oscuro-Textoner.jpg"/>
          <p:cNvPicPr/>
          <p:nvPr/>
        </p:nvPicPr>
        <p:blipFill>
          <a:blip r:embed="rId1"/>
          <a:stretch/>
        </p:blipFill>
        <p:spPr>
          <a:xfrm>
            <a:off x="0" y="0"/>
            <a:ext cx="931536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foco-y-epicentro-de-los-terremotos"/>
          <p:cNvPicPr/>
          <p:nvPr/>
        </p:nvPicPr>
        <p:blipFill>
          <a:blip r:embed="rId2"/>
          <a:stretch/>
        </p:blipFill>
        <p:spPr>
          <a:xfrm>
            <a:off x="611280" y="765000"/>
            <a:ext cx="7667640" cy="575172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6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entury Gothic"/>
              </a:rPr>
              <a:t>Why did it occur?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0" y="4365720"/>
            <a:ext cx="31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Because of the moving of the Nazca Plate and Southern      American 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7" descr="http://alquilerpistasdepadel.com/wp-content/uploads/2012/04/verde-manza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22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7b9899"/>
                </a:solidFill>
                <a:latin typeface="Century Gothic"/>
              </a:rPr>
              <a:t>Dissasters Produced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23640" y="1700280"/>
            <a:ext cx="48862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20,000 people homeles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6,000 dea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Tsunami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5" descr="Terremoto"/>
          <p:cNvPicPr/>
          <p:nvPr/>
        </p:nvPicPr>
        <p:blipFill>
          <a:blip r:embed="rId2"/>
          <a:stretch/>
        </p:blipFill>
        <p:spPr>
          <a:xfrm>
            <a:off x="2843280" y="2637000"/>
            <a:ext cx="5580000" cy="380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9" descr="http://www.revistapioneros.com/wp-content/uploads/2012/08/11058197-azul-turquesa-formentera-ondulacion-del-agua-en-la-playa-de-illetes-si-balea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66"/>
                </a:solidFill>
                <a:latin typeface="Century Gothic"/>
              </a:rPr>
              <a:t>Could it happen again?</a:t>
            </a:r>
            <a:endParaRPr b="0" lang="en-US" sz="5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042920" y="2637000"/>
            <a:ext cx="785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684360" y="170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Yes, because it is near bou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7" descr="C:\Users\JOEL\Pictures\imagews.jpg"/>
          <p:cNvPicPr/>
          <p:nvPr/>
        </p:nvPicPr>
        <p:blipFill>
          <a:blip r:embed="rId2"/>
          <a:stretch/>
        </p:blipFill>
        <p:spPr>
          <a:xfrm>
            <a:off x="0" y="2492280"/>
            <a:ext cx="8172360" cy="436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http://www.andaluzadearteymanualidades.es/Catalogo/0305000.JPG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40" name="3 CuadroTexto"/>
          <p:cNvSpPr/>
          <p:nvPr/>
        </p:nvSpPr>
        <p:spPr>
          <a:xfrm>
            <a:off x="179280" y="263700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Richter scale: 9´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ercalli scale: XI and 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In Valdivia there was a flood of the nearest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4 CuadroTexto"/>
          <p:cNvSpPr/>
          <p:nvPr/>
        </p:nvSpPr>
        <p:spPr>
          <a:xfrm>
            <a:off x="395280" y="18900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Info. About 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Earthqu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2:37:48Z</dcterms:created>
  <dc:creator>CM</dc:creator>
  <dc:description/>
  <dc:language>en-US</dc:language>
  <cp:lastModifiedBy>JOEL</cp:lastModifiedBy>
  <dcterms:modified xsi:type="dcterms:W3CDTF">2013-05-21T17:56:04Z</dcterms:modified>
  <cp:revision>14</cp:revision>
  <dc:subject/>
  <dc:title>Valdivia’s Earthquake</dc:title>
</cp:coreProperties>
</file>