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BC5-6CA4-4658-80D5-98DDCE74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12F-2894-41F5-ADDC-674871D0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66F8F-D6EF-43C9-98B8-CFB5D175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0F14F-8E5C-4918-9A1F-8FFCD861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55906-4671-4F08-8CF1-B9E217A6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6F2F7-D579-401E-9277-CFD7DE34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E970B-1296-4C67-87F8-8206C8C5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E7CD4-97FF-41F0-8075-0F174F4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04AAB-2039-4648-9066-762E6667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A1C0E-D6C9-4CE2-8471-6393D8CD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D1285-10E1-4631-95BE-2671A641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42377-F909-416D-AC9D-DD6EC76E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F05-D773-4530-9A86-5A7F511A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85BE5-230A-437B-BF30-67E8AC86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39719-5789-4DF4-86F1-CC423BD8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7FCE7-A035-401D-9CDB-436EF063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2AEB8-4DAD-4BFC-B8CC-88A23F6A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E9999-7C62-4D36-9E13-5CD1BF74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67266-FE6A-4FAA-AFFC-94BAF743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5661D-8F5B-4568-97D5-D403D3F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391B8-655B-4D07-9495-7A86525F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8A36A-5CAA-4F33-9D0C-C5B2C849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ED6DA-AF42-4A05-985A-F7954DB9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A8F-628F-4D45-8679-E41646ED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20EF8-828C-4DF5-9BA0-EDC22445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F134A-30B1-42D0-897E-7AE21069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9AA2B-B276-419B-AE47-AE5D8AC4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48FCA-808F-4660-87CD-475D9B47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589E2-5BCB-4C2E-A62D-32E8D1D8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0B03F-4A7E-4A92-B079-2624ADD3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FC998-1A3D-4DC2-BF89-C0B9B5FC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6FBFC-38B7-49A7-BBC2-2FFAFD80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65C61-212B-48AF-B95D-5EE9357A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2B598-7748-4D5F-9E7D-35AAC2F1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A344-D30F-46A1-9E83-1CC736D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A1F7A-AF85-4E80-96B1-AD45EE7E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8ED8C-C3B7-4E1C-8691-8AB86E6C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5F171-DFC3-43D6-8B28-AAF07394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C96DE-7E64-487E-8053-9728F1FD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4CEC2-017F-47CF-801F-56F7286A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2D853-7D0D-48BE-9531-E211C81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54ECD-0046-4468-9C35-9AEF08DF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5F836-54BE-4CE3-BEE4-DC6EF5D3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AD7AB-9CA4-4681-8E5E-BF8B8487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5DFAD-DC38-42BD-B040-AF2AEABF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8889-5757-4BEA-9354-C1699A31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CBB3E-9D8B-4C71-BB67-785EE375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6BCFE-450C-4D41-AD26-E2AC464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78796-97B7-448C-956F-E59E1930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D37EC-1C33-4D39-89F0-F8F66B71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2E7B5-D59A-4E78-8937-0F173502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239A-CEA1-4E42-94DF-2AB982E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853-440E-4A36-95E8-042C50EF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C7C2-E755-49E2-959E-33DC508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D7E6-D25C-42C0-BCE9-EAC99C5A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CDDB-1BB9-44C4-BF60-BE566462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101-4C6B-4B59-8D39-9DA3AA6C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BA45-50BE-43DC-AF6D-36A1BD48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2F7C-5C27-4C75-9566-4128366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827B-1D2D-4377-B391-70509FF0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C8A9-7F4F-4252-A060-DFF5DFCE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16FD-1CF7-4498-ABFE-00268FFD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DDB3-77F3-4BA0-8FD0-98BA9A70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DA1D-9507-46F1-A5BD-D95A6658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D6FE1-1D91-4FEE-9D78-5D7251BF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96C7-EAFA-40C7-9D1C-C7787880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1517-4DFE-474C-A78C-F4154516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C9D-031D-43E2-86FB-48A3DFD3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67D0-47F2-4AFE-B6D1-87140E54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FF171-2320-498C-87C0-7FF82BA8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BCB9-9873-4554-8D9E-EAC58545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1653-B1C1-4F81-A510-B32D12E5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EA84-398F-47A7-BEF6-6C1C9905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987C-6E17-41C6-8808-051ED312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13B5-2E39-4EDC-80A8-B2CDFA79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9DA6-1C2B-4A36-B9C4-A02F9CEA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012C-629F-4B83-A5EF-26E23F34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3D0A9-B735-4D51-977D-2F788D2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065-2910-424F-A086-D88CFF39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174F-DA78-4BB8-B3AC-814C604A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7E8A-0CBC-40EB-A633-438F44FC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8C25-DA86-4B5F-8E2F-138690C3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4A2D-DD2C-4761-811C-086DF50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CE57-23B7-40F2-94C6-3FB60E6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8EC9-D807-4B50-BBAC-44A3EDEA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6C76-8275-42B3-8ABD-D09F58F0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7681-0A21-445E-BA0E-552C9932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1799-AD9B-4CA4-9A8B-E6C2DF56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CC84-3499-417C-AA29-044A37F6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EA4-34C2-4A6F-BAF6-EE7891E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0487-7C67-4D26-91B7-A33A04E4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6BD46-C232-4BB8-8530-D290D778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BC60F-7FC2-4227-A7AF-D029D27B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66CC7-4C8D-425E-886A-D489D562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FE8C1-85E3-4CA5-9BE6-E98EA7D9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1823-9D4D-4DB6-8DFE-B07EFAE1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F37C-4503-494F-AE1F-F17AEA58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8FDB-C31C-4D40-9F58-24BB91A2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B49B8-AC2B-44AB-A32A-DBEA0D91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3E8EC-B6AA-483B-A337-57C2B5C9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9AE-944D-4118-B6C0-7D2A776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EA831-C10A-4387-ACD9-B460E01B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4FD90-0285-486A-ADFA-A8733DCA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5B80-5008-4707-A73B-953037D8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7B88A-D867-4C18-AE1C-69458DB9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0194A-F334-484E-9E21-5FFEB0B0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60AE2-7E98-46F0-B253-75B005E5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60E29-35B9-4171-BB99-8F1A8F53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46346-E450-4A49-ACCE-A8605012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C9DA4-5EE1-43AA-9140-A103FE55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B33C-E27A-45E5-B467-609CD19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BF9-5312-4CD6-B3ED-4348678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80AD6-AEA4-4B56-912D-AA5EB251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8809C-23E8-4922-8431-58A98216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A3B6A-4755-49AF-9275-4D014D99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3F2B-1EB3-4F62-9737-C81C3980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CE8B-969B-4724-A351-B90257F7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C8891-EA08-4C75-977B-FCD8B0BB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8CCCE-9ED6-404C-BEEA-A4ABAF9F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4E6A7-E5F0-44D8-BF82-36A7ACA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9C3A1-6FFC-42D5-BDBC-A69BF4BE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A1634-51F6-443E-A80E-F4CFE33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C4A-7818-4A71-8145-F6FAB0D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ECE0C-FD5A-43AE-BC85-8EBDBB9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A7A4C-75EF-4965-A8AC-E5A5E436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74161-68AA-4001-8412-CDC8E524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23761-400B-48C8-B6FD-EA4F6599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2206-8D3F-4CA4-9C88-3D1D9D71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05B5-C30D-4904-B1D7-FC3817EC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9F43B-6D4D-441B-8952-9DD56212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9887D-6E34-4813-953C-521C6A9D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6387A-327B-418B-A416-9E6B2CF7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0F9D3-9514-42ED-BFE4-E039AFC8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B7D-CCFC-4D04-93BC-50E5B33B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0D452-1C87-4471-B46B-902504A1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86C8-D88E-413C-BD60-384F7A5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C00B3-22A5-4EDF-BF21-B77A853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1A29-4DD7-444A-BEEB-0FC9E863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0350A-7757-4F4A-A5A5-90BE6EA6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4E29A-85B3-4AEA-A99C-E3F6FB1D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7DD9-BD95-47C2-B0C7-2817F1BE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05829-D9BB-4290-98A8-9F60A671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F5C02-7599-4250-B1B1-E1728E23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C1034-2FF2-4E14-AF6E-0E9F238C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4DCB-A0B6-450B-A34C-ECBE4B966B81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3291-BEA1-4DFF-A9A7-ED28F1D1DE4E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41EB-4315-429E-B9B3-F2E8542A4CEC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0F7-0D5E-456B-9944-DFA4112B9C12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78F1-5DE0-4EEA-9E19-0E80FB45BC28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2EFF-FF6B-4D02-B001-076FCF820C6C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309B-C484-4333-A68D-4552AF745FFD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5A1F-A5DE-4075-A8C8-A02CD21BDC83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279C-5BC5-4105-B846-CAD6E9552830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6C75-876F-4F38-AAB0-D3700430E8DA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C148-872D-4CB0-8D2B-E089EB880F7D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41AD-DCA2-45D5-B8CA-4A9998DD48F1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8" descr="http://earthquake.usgs.gov/earthquakes/world/events/images/1960_05_22_hilo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89308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800" spc="-1" strike="noStrike">
                <a:solidFill>
                  <a:srgbClr val="00ffff"/>
                </a:solidFill>
                <a:latin typeface="Century Gothic"/>
              </a:rPr>
              <a:t>Valdivia’s Earthquake</a:t>
            </a:r>
            <a:endParaRPr b="0" lang="en-US" sz="5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179280" y="3213000"/>
            <a:ext cx="8496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Joel Jara C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Rebeca García Co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Carlos San Martí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7" descr="C:\Users\JOEL\Pictures\r-CHINA-EARTHQUAKE-2013-large570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1989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C:\Users\JOEL\Pictures\imagese.jpg"/>
          <p:cNvPicPr/>
          <p:nvPr/>
        </p:nvPicPr>
        <p:blipFill>
          <a:blip r:embed="rId2"/>
          <a:stretch/>
        </p:blipFill>
        <p:spPr>
          <a:xfrm>
            <a:off x="4788000" y="1989000"/>
            <a:ext cx="3984480" cy="4869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C:\Users\JOEL\Pictures\index.jpg"/>
          <p:cNvPicPr/>
          <p:nvPr/>
        </p:nvPicPr>
        <p:blipFill>
          <a:blip r:embed="rId3"/>
          <a:stretch/>
        </p:blipFill>
        <p:spPr>
          <a:xfrm>
            <a:off x="0" y="3645000"/>
            <a:ext cx="4979880" cy="3213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C:\Users\JOEL\Pictures\images.jpg"/>
          <p:cNvPicPr/>
          <p:nvPr/>
        </p:nvPicPr>
        <p:blipFill>
          <a:blip r:embed="rId4"/>
          <a:stretch/>
        </p:blipFill>
        <p:spPr>
          <a:xfrm>
            <a:off x="0" y="0"/>
            <a:ext cx="4788000" cy="3676680"/>
          </a:xfrm>
          <a:prstGeom prst="rect">
            <a:avLst/>
          </a:prstGeom>
          <a:ln w="0">
            <a:noFill/>
          </a:ln>
        </p:spPr>
      </p:pic>
      <p:sp>
        <p:nvSpPr>
          <p:cNvPr id="646" name="7 CuadroTexto"/>
          <p:cNvSpPr/>
          <p:nvPr/>
        </p:nvSpPr>
        <p:spPr>
          <a:xfrm>
            <a:off x="5003640" y="59500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entury Gothic"/>
              </a:rPr>
              <a:t>- It was a huge catastrop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http://1.bp.blogspot.com/-jZOdB1tnfY4/T7qMhHg414I/AAAAAAAACj8/1xq5MsLjbZQ/s1600/Cuadro-Negro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http://classes.dma.ucla.edu/Spring06/161A/projects/chris/research/conclusion.gif"/>
          <p:cNvPicPr/>
          <p:nvPr/>
        </p:nvPicPr>
        <p:blipFill>
          <a:blip r:embed="rId2"/>
          <a:stretch/>
        </p:blipFill>
        <p:spPr>
          <a:xfrm>
            <a:off x="900000" y="0"/>
            <a:ext cx="7128000" cy="4929120"/>
          </a:xfrm>
          <a:prstGeom prst="rect">
            <a:avLst/>
          </a:prstGeom>
          <a:ln w="0">
            <a:noFill/>
          </a:ln>
        </p:spPr>
      </p:pic>
      <p:sp>
        <p:nvSpPr>
          <p:cNvPr id="649" name="6 CuadroTexto"/>
          <p:cNvSpPr/>
          <p:nvPr/>
        </p:nvSpPr>
        <p:spPr>
          <a:xfrm>
            <a:off x="1547640" y="4437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Our conclusion  is that the Valdivia earthquake was very  destructive  and it might happen ag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1" name="Picture 2" descr="http://blogfiles.wfmu.org/KF/2010/08/25/gif_the_end320.gif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8" descr="terremot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692280"/>
            <a:ext cx="5256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Century Gothic"/>
              </a:rPr>
              <a:t>Introduction</a:t>
            </a:r>
            <a:endParaRPr b="0" lang="en-US" sz="6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324000" y="249228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ff"/>
                </a:solidFill>
                <a:latin typeface="Century Gothic"/>
              </a:rPr>
              <a:t>-We are going to talk abou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796000" y="2852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7 CuadroTexto"/>
          <p:cNvSpPr/>
          <p:nvPr/>
        </p:nvSpPr>
        <p:spPr>
          <a:xfrm>
            <a:off x="5364000" y="5013360"/>
            <a:ext cx="32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entury Gothic"/>
              </a:rPr>
              <a:t>Valdivia Earthqu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9" descr="http://t1.gstatic.com/images?q=tbn:ANd9GcTnubJs5lrcJf5YbfO-NdkEaRvklE4XkZizST0Drwiyuwbgzv8dX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9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entury Gothic"/>
              </a:rPr>
              <a:t>General Location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862080" cy="4680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7"/>
          <p:cNvSpPr/>
          <p:nvPr/>
        </p:nvSpPr>
        <p:spPr>
          <a:xfrm>
            <a:off x="4751280" y="28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The star represent the epi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6" descr="http://static.freepik.com/foto-gratis/fondo-de-pantalla-de-color-naranja_21167649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265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entury Gothic"/>
              </a:rPr>
              <a:t>Tectonic Plates Map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755640" y="1511280"/>
            <a:ext cx="7415280" cy="491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5" descr="largest-earthquake-tsunami-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2 Flecha derecha"/>
          <p:cNvSpPr/>
          <p:nvPr/>
        </p:nvSpPr>
        <p:spPr>
          <a:xfrm rot="20487600">
            <a:off x="5254560" y="4595400"/>
            <a:ext cx="3303720" cy="1224000"/>
          </a:xfrm>
          <a:prstGeom prst="rightArrow">
            <a:avLst>
              <a:gd name="adj1" fmla="val 52278"/>
              <a:gd name="adj2" fmla="val 40737"/>
            </a:avLst>
          </a:prstGeom>
          <a:solidFill>
            <a:srgbClr val="00fff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3 CuadroTexto"/>
          <p:cNvSpPr/>
          <p:nvPr/>
        </p:nvSpPr>
        <p:spPr>
          <a:xfrm rot="20493000">
            <a:off x="5434920" y="4941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Gothic"/>
              </a:rPr>
              <a:t>Epi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4 Flecha derecha"/>
          <p:cNvSpPr/>
          <p:nvPr/>
        </p:nvSpPr>
        <p:spPr>
          <a:xfrm>
            <a:off x="2843280" y="2852640"/>
            <a:ext cx="3529080" cy="1152720"/>
          </a:xfrm>
          <a:prstGeom prst="rightArrow">
            <a:avLst>
              <a:gd name="adj1" fmla="val 50000"/>
              <a:gd name="adj2" fmla="val 0"/>
            </a:avLst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5 CuadroTexto"/>
          <p:cNvSpPr/>
          <p:nvPr/>
        </p:nvSpPr>
        <p:spPr>
          <a:xfrm>
            <a:off x="3276720" y="306864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Tsun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6" descr="http://www.pinturas-online.com/images/color-17-ocre-oscuro-Textoner.jpg"/>
          <p:cNvPicPr/>
          <p:nvPr/>
        </p:nvPicPr>
        <p:blipFill>
          <a:blip r:embed="rId1"/>
          <a:stretch/>
        </p:blipFill>
        <p:spPr>
          <a:xfrm>
            <a:off x="0" y="0"/>
            <a:ext cx="931536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foco-y-epicentro-de-los-terremotos"/>
          <p:cNvPicPr/>
          <p:nvPr/>
        </p:nvPicPr>
        <p:blipFill>
          <a:blip r:embed="rId2"/>
          <a:stretch/>
        </p:blipFill>
        <p:spPr>
          <a:xfrm>
            <a:off x="611280" y="765000"/>
            <a:ext cx="7667640" cy="575172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6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entury Gothic"/>
              </a:rPr>
              <a:t>Why did it occur?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0" y="436572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Because of the moving of the Nazca Plate and Southern      American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7" descr="http://alquilerpistasdepadel.com/wp-content/uploads/2012/04/verde-manza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22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7b9899"/>
                </a:solidFill>
                <a:latin typeface="Century Gothic"/>
              </a:rPr>
              <a:t>Dissasters Produced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23640" y="1700280"/>
            <a:ext cx="48862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20,000 people homeles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6,000 dea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Tsunami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5" descr="Terremoto"/>
          <p:cNvPicPr/>
          <p:nvPr/>
        </p:nvPicPr>
        <p:blipFill>
          <a:blip r:embed="rId2"/>
          <a:stretch/>
        </p:blipFill>
        <p:spPr>
          <a:xfrm>
            <a:off x="2843280" y="2637000"/>
            <a:ext cx="5580000" cy="380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9" descr="http://www.revistapioneros.com/wp-content/uploads/2012/08/11058197-azul-turquesa-formentera-ondulacion-del-agua-en-la-playa-de-illetes-si-balea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66"/>
                </a:solidFill>
                <a:latin typeface="Century Gothic"/>
              </a:rPr>
              <a:t>Could it happen again?</a:t>
            </a:r>
            <a:endParaRPr b="0" lang="en-US" sz="5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042920" y="2637000"/>
            <a:ext cx="785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684360" y="170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Yes, because it is near bou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7" descr="C:\Users\JOEL\Pictures\imagews.jpg"/>
          <p:cNvPicPr/>
          <p:nvPr/>
        </p:nvPicPr>
        <p:blipFill>
          <a:blip r:embed="rId2"/>
          <a:stretch/>
        </p:blipFill>
        <p:spPr>
          <a:xfrm>
            <a:off x="0" y="2492280"/>
            <a:ext cx="8172360" cy="436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http://www.andaluzadearteymanualidades.es/Catalogo/0305000.JPG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40" name="3 CuadroTexto"/>
          <p:cNvSpPr/>
          <p:nvPr/>
        </p:nvSpPr>
        <p:spPr>
          <a:xfrm>
            <a:off x="179280" y="263700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Richter scale: 9´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ercalli scale: XI and 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In Valdivia there was a flood of the nearest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4 CuadroTexto"/>
          <p:cNvSpPr/>
          <p:nvPr/>
        </p:nvSpPr>
        <p:spPr>
          <a:xfrm>
            <a:off x="395280" y="18900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Info. About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Earthqu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2:37:48Z</dcterms:created>
  <dc:creator>CM</dc:creator>
  <dc:description/>
  <dc:language>en-US</dc:language>
  <cp:lastModifiedBy>JOEL</cp:lastModifiedBy>
  <dcterms:modified xsi:type="dcterms:W3CDTF">2013-05-21T17:56:04Z</dcterms:modified>
  <cp:revision>14</cp:revision>
  <dc:subject/>
  <dc:title>Valdivia’s Earthquake</dc:title>
</cp:coreProperties>
</file>