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002-393C-4E8D-AB2D-4638711D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401-D2D5-4306-9725-0C7C57F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2A83F-946A-4ECB-84E6-D66F756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A7248-AF20-4DB8-8F03-C3C005C8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5BD2A-D760-4029-B95B-35327CE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4C465-2B1D-4779-96DF-2CE39D99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9ACDD-22CB-4EE4-95CF-4A78ED0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8A9AD-14BC-4998-A77D-7A83F2B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C221D-4560-454C-BC2D-301E9826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60209-0B3D-43BD-8208-61767B5D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E8128-EFC2-410F-934A-44A74328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6C127-1679-43D0-8E89-053BA59C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E1C-BBE3-4BFD-BE4A-A232498D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C21550-E04A-47DB-8F67-994DB4DA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D5FA3-6C53-422E-B88C-9CEAFE48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26964-463F-4061-A11C-33759C92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DCA96-7029-4F0C-8B09-353A774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71168-3333-45BE-AEAE-F26AD6C0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1C14F-767C-419C-86C9-757069F9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13EC6-C3CC-4469-A2CA-4B596DA2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0DB11-A4B5-4A96-A43D-02E68F6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E5EF3-81EE-42CD-A4CE-491EEB8D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B95FB-2340-420E-8847-21E4FB17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0EE-81C2-4046-B7D2-C4F8FC99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007FF-CAA5-4B6C-8597-D82090BA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F1693-5348-49ED-90CE-1AFFF805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2BA10-DCE3-4569-B98A-9C416859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3D3DC-1800-44BB-8DA2-63894E66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92213-EB35-4726-8B3F-C0BE7948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214A1-D2A7-4B65-A8B8-9AC4BEA9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39577-C5BE-4AE5-A607-37C8D65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E2432-2DFF-41F2-897E-34F3E54B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4000E-3844-47BE-9811-8257CF8D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C6352-6199-4E5F-816E-79537850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973E-F863-49DF-ABF6-529BB527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6DC16-E005-4800-B228-2188B0B0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7AB1E-5D06-4C52-AF84-6127C1C8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F86F9-4CD4-424E-B97D-AEFA6298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E2B33-6EA0-42DC-9305-84DF6DAA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13F96-EBB2-4888-A062-72B0E58F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99B7E-277C-4625-986A-3FC71B0F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A974D-0CF4-43D8-8A0D-D8475D76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C237E-7F5A-436E-A3F4-F3A5B74E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64F01-ECEC-4396-B2F4-5F98C53F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4123F-4D6F-4155-80B3-EA5102DC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3DCE-BD31-42BC-A2B4-1C590B53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A2834-E422-40B9-A803-16C3F27E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E8610-63FC-4F7D-8F87-83627247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FA5B6-A0C1-440E-ACB8-FFA1CE5B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CAAB1-146D-4D27-84A2-4EEC7E99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30303-41A7-4D0F-BA38-24309168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6FE0-9F9B-4C79-81B1-B236EC2E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E2F6-50A2-474A-8A96-CB40FE8C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7B41-7C57-4D0E-A618-4EE37D66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7E7D-44D8-4092-9AA0-2808B79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B42E-FDAA-45BB-BCD1-7FB3724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C15-B157-4F43-9104-83690B06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195E-948F-44B1-ACC0-ABB1D01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D107-FCB2-4382-8CA9-AE2BE24C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5FC-2F5A-47A9-8BF9-DB7B3E4C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5E2-C554-425A-AA61-D09059D4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0F5D-07AB-4BFC-8840-4E8E987E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744A-7E38-4A9D-B4B3-902E583E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6322-F4B9-4099-AD00-090C937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8704-23F0-4C2B-BC56-E71C833C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D7D3-46D2-4D70-8D64-5B35E8FA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BBB7-F3F7-4E17-AFF4-361D60BA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21C-D52D-4713-AE2E-1A65116D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3675-2390-463E-AC6E-014E8391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98F5-9EA3-4589-ADCB-EB4BCF6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A136-E247-4395-BF07-48A27C8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13F6-D18B-441B-917C-8ED9B29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FED5-C2C4-4F32-8D30-19693321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364C-1975-4229-8A4A-4B3564D5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A24C0-468B-478A-8CA6-81E66A00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79229-46BC-49FE-9DDB-42F6C7F8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94DD-2C15-4A92-91E9-287855D5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1175-40C1-43DD-85AA-163B260D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92C-BB6E-4819-B051-AF3D74DD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20A3-0F6A-4AA5-A17A-A7592521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FD5EE-9D3D-4833-B821-0B214F23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A427A-7FE1-4D95-A999-F49F21C8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8E783-367A-435B-AE6D-DD5679D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7DF8-DC86-4CDE-A3B4-97A7DAB8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1415-F5C6-438E-8E99-E6F764E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6A66-0E44-4582-84D3-9EB020EF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749FF-9731-4A85-84ED-4C06A262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8BD6-DF57-40E1-AB6A-7B46ABEB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3A26D-A002-413B-A672-10D3FCF7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A32-F8F0-4A8E-B42A-C241CC7E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368A-E53F-42B4-BCF2-E1E2F530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A8603-F749-4A13-BBA4-B5E0565B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788D-AFCF-4709-8C74-BEC381A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B9896-05B6-4BAC-BF3B-5264A5E3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0333-EBF3-4570-B791-8C22E94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B1D0-56A4-4508-90CF-C1E973F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D8A90-7196-47E0-BCE2-106BA0F4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6EE5-A1FB-4A5B-9256-061A54D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D29C6-BCD2-46BC-9BCF-82C7AE0F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EABB5-5F7F-409E-B556-24B4649F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7E5-E0DF-4300-B20B-54B298D3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1C12-55A7-4FE0-A8E7-CDAFE010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A8DDB-DAEF-4648-8DB0-C1B105ED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46831-15F5-4023-801A-FBD7897D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FBC2-C215-4C7A-9769-4DC1343B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92508-FDEE-47EC-96C9-08AF358C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8C3BD-D5E0-428F-9DC9-0FFD8B1D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D7382-7017-4BC4-B3DC-1903B04D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99C4-7095-4472-983A-5DD2799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7C40-16A1-455B-808E-050D4236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0F8EA-F9DC-4CD5-BDE6-AAE83B70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3CB-8F37-4132-AE69-2EB34F6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6C35B-3A1A-4C7F-B22C-10C9042F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F4B46-EC3D-4860-AA3D-4C01A818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B40C8-8BA5-4718-B812-A2E23565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9D543-80FE-4BDD-9404-EDEDB823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96BB6-DB46-4299-B6F3-B9A7CD1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C9A2-6E2C-47CC-BA97-81D6CF05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EB0E2-CDD0-4E65-BA5B-55141AC0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592E-1A63-46B0-8B26-9C326344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1D5A-47E3-49FB-AF26-FE04FB93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C971A-CEE5-4919-A6EF-114DD4E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86E-9FA5-4564-B9CA-2223C43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BBBEE-A8B6-46DA-8124-D9E2A86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7E8A8-2214-4D7E-AEAA-60AD2CB3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19960-D1EE-4E89-9809-D2C3EF0E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648EB-7E72-4D09-887A-F5005517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C9A63-2612-4940-95FB-3DAFC4B7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B71F-4024-44B2-9313-21A22117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8CDF8-E050-4574-A95A-DA556589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6907A-8350-4BBB-B2C1-33C67E83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540EE-7563-446B-9A70-E7305DA6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F7EDE-5262-415A-90D4-234BB13F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BCB-86BF-4B0F-99F5-07C770F1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E745A-D158-4343-BC58-3A4E259C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83397-1EAE-4F48-8AA3-F7E93D8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917B7-AD12-4B92-ADA3-111160A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B8782-1DCA-4BFC-9BBE-5F350150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23C7A-3A05-4D1C-ABEF-7B955323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79E28-C841-40CE-8695-F8D45DEC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F7920-CFAD-4853-8B06-B10AA6F0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A2FD7-B375-4D35-9649-099FB934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DD667-2EB5-4445-880F-27F3010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65D5F-EE9D-4983-8F36-B2CDD68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6111-29B8-41E7-B773-6C12C2DE3055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B586-C265-4E7F-BA0C-6F74999F46CA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B1FF-137C-498B-9A7C-4AD3D6A19DB2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D21D-A703-4BCF-85BF-500256FB1C18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94E5-5AF7-476D-BE6D-E377FFD8BA50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CDB7-2043-4B7D-A930-23C1932661F7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D28-08B5-428D-B74F-EB4D49872774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7152-2367-47F5-89A5-184CC8C1868E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28D4-8AE6-4720-802A-8FEEA2F322AA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51AE-6472-4C05-A962-A955978F7742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AEFF-EBBA-4E0D-A35A-93D22DF22A6A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E75B-A54D-47B9-B9DE-30E5FCFB52FB}" type="slidenum">
              <a:rPr b="0" lang="es-E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8" descr="http://earthquake.usgs.gov/earthquakes/world/events/images/1960_05_22_hilo.gif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89308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800" spc="-1" strike="noStrike">
                <a:solidFill>
                  <a:srgbClr val="00ffff"/>
                </a:solidFill>
                <a:latin typeface="Century Gothic"/>
              </a:rPr>
              <a:t>Valdivia’s Earthquake</a:t>
            </a:r>
            <a:endParaRPr b="0" lang="en-US" sz="5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179280" y="3213000"/>
            <a:ext cx="8496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Joel Jara C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Rebeca García Co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entury Gothic"/>
              </a:rPr>
              <a:t>Carlos San Martí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7" descr="C:\Users\JOEL\Pictures\r-CHINA-EARTHQUAKE-2013-large570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1989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C:\Users\JOEL\Pictures\imagese.jpg"/>
          <p:cNvPicPr/>
          <p:nvPr/>
        </p:nvPicPr>
        <p:blipFill>
          <a:blip r:embed="rId2"/>
          <a:stretch/>
        </p:blipFill>
        <p:spPr>
          <a:xfrm>
            <a:off x="4788000" y="1989000"/>
            <a:ext cx="3984480" cy="4869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C:\Users\JOEL\Pictures\index.jpg"/>
          <p:cNvPicPr/>
          <p:nvPr/>
        </p:nvPicPr>
        <p:blipFill>
          <a:blip r:embed="rId3"/>
          <a:stretch/>
        </p:blipFill>
        <p:spPr>
          <a:xfrm>
            <a:off x="0" y="3645000"/>
            <a:ext cx="4979880" cy="3213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C:\Users\JOEL\Pictures\images.jpg"/>
          <p:cNvPicPr/>
          <p:nvPr/>
        </p:nvPicPr>
        <p:blipFill>
          <a:blip r:embed="rId4"/>
          <a:stretch/>
        </p:blipFill>
        <p:spPr>
          <a:xfrm>
            <a:off x="0" y="0"/>
            <a:ext cx="4788000" cy="3676680"/>
          </a:xfrm>
          <a:prstGeom prst="rect">
            <a:avLst/>
          </a:prstGeom>
          <a:ln w="0">
            <a:noFill/>
          </a:ln>
        </p:spPr>
      </p:pic>
      <p:sp>
        <p:nvSpPr>
          <p:cNvPr id="646" name="7 CuadroTexto"/>
          <p:cNvSpPr/>
          <p:nvPr/>
        </p:nvSpPr>
        <p:spPr>
          <a:xfrm>
            <a:off x="5003640" y="59500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Century Gothic"/>
              </a:rPr>
              <a:t>- It was a huge catastrop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6" descr="http://1.bp.blogspot.com/-jZOdB1tnfY4/T7qMhHg414I/AAAAAAAACj8/1xq5MsLjbZQ/s1600/Cuadro-Negro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http://classes.dma.ucla.edu/Spring06/161A/projects/chris/research/conclusion.gif"/>
          <p:cNvPicPr/>
          <p:nvPr/>
        </p:nvPicPr>
        <p:blipFill>
          <a:blip r:embed="rId2"/>
          <a:stretch/>
        </p:blipFill>
        <p:spPr>
          <a:xfrm>
            <a:off x="900000" y="0"/>
            <a:ext cx="7128000" cy="4929120"/>
          </a:xfrm>
          <a:prstGeom prst="rect">
            <a:avLst/>
          </a:prstGeom>
          <a:ln w="0">
            <a:noFill/>
          </a:ln>
        </p:spPr>
      </p:pic>
      <p:sp>
        <p:nvSpPr>
          <p:cNvPr id="649" name="6 CuadroTexto"/>
          <p:cNvSpPr/>
          <p:nvPr/>
        </p:nvSpPr>
        <p:spPr>
          <a:xfrm>
            <a:off x="1547640" y="4437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Our conclusion  is that the Valdivia earthquake was very  destructive  and it might happen ag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1" name="Picture 2" descr="http://blogfiles.wfmu.org/KF/2010/08/25/gif_the_end320.gif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8" descr="terremot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692280"/>
            <a:ext cx="5256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Century Gothic"/>
              </a:rPr>
              <a:t>Introduction</a:t>
            </a:r>
            <a:endParaRPr b="0" lang="en-US" sz="6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324000" y="249228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ffff"/>
                </a:solidFill>
                <a:latin typeface="Century Gothic"/>
              </a:rPr>
              <a:t>-We are going to talk abou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796000" y="2852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7 CuadroTexto"/>
          <p:cNvSpPr/>
          <p:nvPr/>
        </p:nvSpPr>
        <p:spPr>
          <a:xfrm>
            <a:off x="5364000" y="5013360"/>
            <a:ext cx="32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Century Gothic"/>
              </a:rPr>
              <a:t>Valdivia Earthqu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9" descr="http://t1.gstatic.com/images?q=tbn:ANd9GcTnubJs5lrcJf5YbfO-NdkEaRvklE4XkZizST0Drwiyuwbgzv8dX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97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entury Gothic"/>
              </a:rPr>
              <a:t>General Location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862080" cy="4680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7"/>
          <p:cNvSpPr/>
          <p:nvPr/>
        </p:nvSpPr>
        <p:spPr>
          <a:xfrm>
            <a:off x="4751280" y="28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The star represent the epi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6" descr="http://static.freepik.com/foto-gratis/fondo-de-pantalla-de-color-naranja_21167649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265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entury Gothic"/>
              </a:rPr>
              <a:t>Tectonic Plates Map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755640" y="1511280"/>
            <a:ext cx="7415280" cy="491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5" descr="largest-earthquake-tsunami-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2 Flecha derecha"/>
          <p:cNvSpPr/>
          <p:nvPr/>
        </p:nvSpPr>
        <p:spPr>
          <a:xfrm rot="20487600">
            <a:off x="5254560" y="4595400"/>
            <a:ext cx="3303720" cy="1224000"/>
          </a:xfrm>
          <a:prstGeom prst="rightArrow">
            <a:avLst>
              <a:gd name="adj1" fmla="val 52278"/>
              <a:gd name="adj2" fmla="val 40737"/>
            </a:avLst>
          </a:prstGeom>
          <a:solidFill>
            <a:srgbClr val="00fff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3 CuadroTexto"/>
          <p:cNvSpPr/>
          <p:nvPr/>
        </p:nvSpPr>
        <p:spPr>
          <a:xfrm rot="20493000">
            <a:off x="5434920" y="4941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Gothic"/>
              </a:rPr>
              <a:t>Epi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4 Flecha derecha"/>
          <p:cNvSpPr/>
          <p:nvPr/>
        </p:nvSpPr>
        <p:spPr>
          <a:xfrm>
            <a:off x="2843280" y="2852640"/>
            <a:ext cx="3529080" cy="1152720"/>
          </a:xfrm>
          <a:prstGeom prst="rightArrow">
            <a:avLst>
              <a:gd name="adj1" fmla="val 50000"/>
              <a:gd name="adj2" fmla="val 0"/>
            </a:avLst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5 CuadroTexto"/>
          <p:cNvSpPr/>
          <p:nvPr/>
        </p:nvSpPr>
        <p:spPr>
          <a:xfrm>
            <a:off x="3276720" y="306864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Tsun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6" descr="http://www.pinturas-online.com/images/color-17-ocre-oscuro-Textoner.jpg"/>
          <p:cNvPicPr/>
          <p:nvPr/>
        </p:nvPicPr>
        <p:blipFill>
          <a:blip r:embed="rId1"/>
          <a:stretch/>
        </p:blipFill>
        <p:spPr>
          <a:xfrm>
            <a:off x="0" y="0"/>
            <a:ext cx="931536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foco-y-epicentro-de-los-terremotos"/>
          <p:cNvPicPr/>
          <p:nvPr/>
        </p:nvPicPr>
        <p:blipFill>
          <a:blip r:embed="rId2"/>
          <a:stretch/>
        </p:blipFill>
        <p:spPr>
          <a:xfrm>
            <a:off x="611280" y="765000"/>
            <a:ext cx="7667640" cy="575172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68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entury Gothic"/>
              </a:rPr>
              <a:t>Why did it occur?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0" y="436572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entury Gothic"/>
              </a:rPr>
              <a:t>Because of the moving of the Nazca Plate and Southern      American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7" descr="http://alquilerpistasdepadel.com/wp-content/uploads/2012/04/verde-manzan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22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7b9899"/>
                </a:solidFill>
                <a:latin typeface="Century Gothic"/>
              </a:rPr>
              <a:t>Dissasters Produced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23640" y="1700280"/>
            <a:ext cx="48862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20,000 people homeles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6,000 dea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Gothic"/>
              </a:rPr>
              <a:t>Tsunami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5" descr="Terremoto"/>
          <p:cNvPicPr/>
          <p:nvPr/>
        </p:nvPicPr>
        <p:blipFill>
          <a:blip r:embed="rId2"/>
          <a:stretch/>
        </p:blipFill>
        <p:spPr>
          <a:xfrm>
            <a:off x="2843280" y="2637000"/>
            <a:ext cx="5580000" cy="380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9" descr="http://www.revistapioneros.com/wp-content/uploads/2012/08/11058197-azul-turquesa-formentera-ondulacion-del-agua-en-la-playa-de-illetes-si-balea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200" spc="-1" strike="noStrike">
                <a:solidFill>
                  <a:srgbClr val="000066"/>
                </a:solidFill>
                <a:latin typeface="Century Gothic"/>
              </a:rPr>
              <a:t>Could it happen again?</a:t>
            </a:r>
            <a:endParaRPr b="0" lang="en-US" sz="5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042920" y="2637000"/>
            <a:ext cx="785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684360" y="170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entury Gothic"/>
              </a:rPr>
              <a:t>Yes, because it is near bound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7" descr="C:\Users\JOEL\Pictures\imagews.jpg"/>
          <p:cNvPicPr/>
          <p:nvPr/>
        </p:nvPicPr>
        <p:blipFill>
          <a:blip r:embed="rId2"/>
          <a:stretch/>
        </p:blipFill>
        <p:spPr>
          <a:xfrm>
            <a:off x="0" y="2492280"/>
            <a:ext cx="8172360" cy="436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http://www.andaluzadearteymanualidades.es/Catalogo/0305000.JPG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40" name="3 CuadroTexto"/>
          <p:cNvSpPr/>
          <p:nvPr/>
        </p:nvSpPr>
        <p:spPr>
          <a:xfrm>
            <a:off x="179280" y="263700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Richter scale: 9´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Mercalli scale: XI and 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-In Valdivia there was a flood of the nearest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4 CuadroTexto"/>
          <p:cNvSpPr/>
          <p:nvPr/>
        </p:nvSpPr>
        <p:spPr>
          <a:xfrm>
            <a:off x="395280" y="18900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Info. About Th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1" lang="es-ES" sz="6000" spc="-1" strike="noStrike">
                <a:solidFill>
                  <a:srgbClr val="ffffff"/>
                </a:solidFill>
                <a:latin typeface="Century Gothic"/>
              </a:rPr>
              <a:t>Earthqu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2:37:48Z</dcterms:created>
  <dc:creator>CM</dc:creator>
  <dc:description/>
  <dc:language>en-US</dc:language>
  <cp:lastModifiedBy>JOEL</cp:lastModifiedBy>
  <dcterms:modified xsi:type="dcterms:W3CDTF">2013-05-21T17:56:04Z</dcterms:modified>
  <cp:revision>14</cp:revision>
  <dc:subject/>
  <dc:title>Valdivia’s Earthquake</dc:title>
</cp:coreProperties>
</file>