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624-42A3-47B5-9864-967841C3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038-1550-486C-B853-49050B98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377-7823-4D6D-98DF-5F87D49D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030-E65D-4849-A950-C748A2DC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C62D-FFDE-438D-828A-469DD506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82F-CE6E-4A26-8B09-AD6C4D30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C7D-03D3-49D2-8B41-101FDC17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30A-FE0D-4007-8FEA-45E96D8D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D4B-F34F-453C-9573-3768628C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EA5-C911-4243-9F2A-CC96C7B7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C0E-0D59-43E2-81F9-FBA97A6F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205-FC7C-4673-B5DE-E792EF51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982D-DB7D-417C-ACAF-1D41EA99D1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eva.profe.naturales@gmail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2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BIOM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63640" y="1557360"/>
            <a:ext cx="5545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nd Term Projec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NERAL INSTRUC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ill be assigned a Biome by the teac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pairs/trios, also assigned by the teacher, you will prepare a presentation (ppt, pdf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 OPEN OFF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16000" y="274680"/>
          <a:ext cx="7056360" cy="6394320"/>
        </p:xfrm>
        <a:graphic>
          <a:graphicData uri="http://schemas.openxmlformats.org/drawingml/2006/table">
            <a:tbl>
              <a:tblPr/>
              <a:tblGrid>
                <a:gridCol w="3529080"/>
                <a:gridCol w="3527280"/>
              </a:tblGrid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DE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GLIF, JOUSSE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YLLÓN PEINADO, DAN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N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EL BARGUI RAMIRO, ISMAEL AS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GALHARDO MARTÍN, ENRIQ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GARCÍA CORRAL, REBEC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GILMORE MADROÑAL, DAN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IDUOUS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JARA CANO, JOE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KHODANITSKA, IRY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TERRANEAN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MARTÍN BALLESTEROS, RAÚ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ARTÍNEZ, ANDRE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EP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MAZO JIMÉNEZ, RUBÉ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PERAL ROCHE, OSC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DE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PERIBÁÑEZ BAZ, HECT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RAMOS AZULAY, JANI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AVANN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RODRÍGUEZ NEVADO, FERNAN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SÁEZ MORENO, MAR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TROPICAL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SAN MARTÍN FERNÁNDEZ, CARL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TELLO ALVÁREZ, AMAY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EBALE OGONO, KADIS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10880" y="2370240"/>
            <a:ext cx="729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ROUP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JECT CONTENT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ome climatic zo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d, temperate, wa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itude. Include a world map of these are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tic condition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, precipitation, seasons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ora (imag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una (imag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AD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(presentations start this da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 21st we will work about it in the computers 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789360"/>
            <a:ext cx="77724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-mail the project to:</a:t>
            </a:r>
            <a:br>
              <a:rPr sz="4000"/>
            </a:br>
            <a:r>
              <a:rPr b="0" lang="en-US" sz="4000" spc="-1" strike="noStrike" u="sng">
                <a:solidFill>
                  <a:srgbClr val="3333ff"/>
                </a:solidFill>
                <a:uFillTx/>
                <a:latin typeface="Comic Sans MS"/>
                <a:hlinkClick r:id="rId1"/>
              </a:rPr>
              <a:t>eva.profe.naturales@gmail.co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I will upload it to the English department Wiki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2:56:09Z</dcterms:created>
  <dc:creator>Rafa</dc:creator>
  <dc:description/>
  <dc:language>en-US</dc:language>
  <cp:lastModifiedBy>Eva</cp:lastModifiedBy>
  <dcterms:modified xsi:type="dcterms:W3CDTF">2013-02-18T18:10:02Z</dcterms:modified>
  <cp:revision>38</cp:revision>
  <dc:subject/>
  <dc:title>RECURSOS DE LA BIOSFERA</dc:title>
</cp:coreProperties>
</file>