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400-82FC-480E-8FCF-97F8FE5F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1BC-FEF2-454E-8E72-A250A219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5AF-3CE6-43E7-9EF5-47ED79D3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831-8F61-49CA-A5F5-0D90106D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7FA-F3EB-4508-BCA4-B6687133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721-F0FB-4EB1-9EA0-862B903B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9D1-7B5C-441C-8386-02E44387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A8D-D71B-4257-B5D2-C35F675D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DC0-95F7-49D6-B09B-4424C588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343-8F2A-41A3-91CC-A89E08B8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8C7E-B844-4305-82B8-27202C93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A66-ABA1-4B48-84E8-F7AE4D69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595A-A29C-4713-8A65-1B5FB37E42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eva.profe.naturales@gmail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2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BIOM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63640" y="1557360"/>
            <a:ext cx="5545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nd Term Projec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NERAL INSTRUC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ill be assigned a Biome by the teac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pairs/trios, also assigned by the teacher, you will prepare a presentation (ppt, pdf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 OPEN OFF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16000" y="274680"/>
          <a:ext cx="7056360" cy="6394320"/>
        </p:xfrm>
        <a:graphic>
          <a:graphicData uri="http://schemas.openxmlformats.org/drawingml/2006/table">
            <a:tbl>
              <a:tblPr/>
              <a:tblGrid>
                <a:gridCol w="3529080"/>
                <a:gridCol w="3527280"/>
              </a:tblGrid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DE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GLIF, JOUSSE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YLLÓN PEINADO, DAN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N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EL BARGUI RAMIRO, ISMAEL AS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GALHARDO MARTÍN, ENRIQ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GARCÍA CORRAL, REBEC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GILMORE MADROÑAL, DAN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IDUOUS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JARA CANO, JOE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KHODANITSKA, IRY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TERRANEAN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MARTÍN BALLESTEROS, RAÚ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ARTÍNEZ, ANDRE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EP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MAZO JIMÉNEZ, RUBÉ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PERAL ROCHE, OSC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DE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PERIBÁÑEZ BAZ, HECT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RAMOS AZULAY, JANI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AVANN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RODRÍGUEZ NEVADO, FERNAN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SÁEZ MORENO, MAR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TROPICAL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SAN MARTÍN FERNÁNDEZ, CARL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TELLO ALVÁREZ, AMAY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EBALE OGONO, KADIS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10880" y="2370240"/>
            <a:ext cx="729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ROUP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JECT CONTENT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ome climatic zo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d, temperate, wa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itude. Include a world map of these are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tic condition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, precipitation, seasons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ora (imag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una (imag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AD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(presentations start this da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 21st we will work about it in the computers 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789360"/>
            <a:ext cx="77724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-mail the project to:</a:t>
            </a:r>
            <a:br>
              <a:rPr sz="4000"/>
            </a:br>
            <a:r>
              <a:rPr b="0" lang="en-US" sz="4000" spc="-1" strike="noStrike" u="sng">
                <a:solidFill>
                  <a:srgbClr val="3333ff"/>
                </a:solidFill>
                <a:uFillTx/>
                <a:latin typeface="Comic Sans MS"/>
                <a:hlinkClick r:id="rId1"/>
              </a:rPr>
              <a:t>eva.profe.naturales@gmail.co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I will upload it to the English department Wiki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2:56:09Z</dcterms:created>
  <dc:creator>Rafa</dc:creator>
  <dc:description/>
  <dc:language>en-US</dc:language>
  <cp:lastModifiedBy>Eva</cp:lastModifiedBy>
  <dcterms:modified xsi:type="dcterms:W3CDTF">2013-02-18T18:10:02Z</dcterms:modified>
  <cp:revision>38</cp:revision>
  <dc:subject/>
  <dc:title>RECURSOS DE LA BIOSFERA</dc:title>
</cp:coreProperties>
</file>