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DC7-A201-4F52-87B0-6FA1B951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7F7-43C9-4EEC-B04A-BEE1E2EC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925-C1F5-48E0-A01C-76B53687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C16-8280-47CA-A9A5-3E2CD161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E84-5B3D-41C7-A8F4-9D416EBB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41D-775D-4159-9ECF-33551CE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F12-CCDF-4685-9B78-9602D8D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794-4411-4E06-A774-38063AD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6B7-6B15-44E8-9407-77DCDA2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789-2868-481A-8F6A-1A787777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9FC-D4A3-4F2B-9769-E9AD21B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645-74C8-4A86-89BD-89F1972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5011-DDF6-48D1-AC12-B036C0EDC8A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va.profe.naturales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IOM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1557360"/>
            <a:ext cx="554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nd Term Proje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NERAL INSTRU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Biome by the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airs/trios, also assigned by the teacher, you will prepare a presentation (ppt, pdf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 OPEN OFF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274680"/>
          <a:ext cx="7056360" cy="639432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GLIF, JOUSSE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YLLÓN PEINADO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EL BARGUI RAMIRO, ISMAEL AS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ALHARDO MARTÍN, ENR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GARCÍA CORRAL, REBE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ILMORE MADROÑAL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DUOUS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JARA CANO, JO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KHODANITSKA, IRY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TERRANEAN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RTÍN BALLESTEROS, RAÚ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ARTÍNEZ, AND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AZO JIMÉNEZ, RUBÉ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ERAL ROCHE, OSC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PERIBÁÑEZ BAZ, HEC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RAMOS AZULAY, JAN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AVAN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RODRÍGUEZ NEVADO, FERNAN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ÁEZ MORENO, MA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ROPICAL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SAN MARTÍN FERNÁNDEZ, CARL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TELLO ALVÁREZ, AMAY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BALE OGONO, KAD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0880" y="237024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JECT CONTENT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e climatic z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, temperate, w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. Include a world map of these ar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ic condi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, precipitation, season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r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n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(presentations start this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1st we will work about it in the computers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789360"/>
            <a:ext cx="77724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-mail the project to:</a:t>
            </a:r>
            <a:br>
              <a:rPr sz="4000"/>
            </a:b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  <a:hlinkClick r:id="rId1"/>
              </a:rPr>
              <a:t>eva.profe.naturales@gmail.c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I will upload it to the English department Wiki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56:09Z</dcterms:created>
  <dc:creator>Rafa</dc:creator>
  <dc:description/>
  <dc:language>en-US</dc:language>
  <cp:lastModifiedBy>Eva</cp:lastModifiedBy>
  <dcterms:modified xsi:type="dcterms:W3CDTF">2013-02-18T18:10:02Z</dcterms:modified>
  <cp:revision>38</cp:revision>
  <dc:subject/>
  <dc:title>RECURSOS DE LA BIOSFERA</dc:title>
</cp:coreProperties>
</file>