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8FC-8ED0-4993-B1EB-885DCFB2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0CC-C647-4EC9-A2D9-E79F8AA4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E2E-CCDF-4EAE-ADAE-4C708FC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B31-F8FB-49A8-9274-37C369B8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461-9BE5-4495-8603-9856F13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3DE-C140-4D32-B8AE-B1511FD5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B75-EEAB-444B-8AAA-356DA02A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67B-15F2-40BB-A7EF-2D24997D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E5E-BAF8-49EB-954A-A190DEC6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299-40A1-4AAB-830B-5A51636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F2D-58F1-4F62-9CD1-794F1A3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BF2-1851-4D52-A8DD-7DB948B7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B33F-78EA-44FB-A3CC-94E8E5B810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va.profe.naturales@gmail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IOM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63640" y="1557360"/>
            <a:ext cx="5545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nd Term Projec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NERAL INSTRU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ill be assigned a Biome by the teac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airs/trios, also assigned by the teacher, you will prepare a presentation (ppt, pdf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 OPEN OFF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16000" y="274680"/>
          <a:ext cx="7056360" cy="639432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GLIF, JOUSSE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YLLÓN PEINADO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EL BARGUI RAMIRO, ISMAEL AS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GALHARDO MARTÍN, ENR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GARCÍA CORRAL, REBEC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GILMORE MADROÑAL, DAN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DUOUS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JARA CANO, JOE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KHODANITSKA, IRY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TERRANEAN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RTÍN BALLESTEROS, RAÚ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ARTÍNEZ, ANDRE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P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AZO JIMÉNEZ, RUBÉ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PERAL ROCHE, OSC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DES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PERIBÁÑEZ BAZ, HEC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RAMOS AZULAY, JANI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SAVANN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RODRÍGUEZ NEVADO, FERNAN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SÁEZ MORENO, MAR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TROPICAL FO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SAN MARTÍN FERNÁNDEZ, CARL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TELLO ALVÁREZ, AMAY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EBALE OGONO, KAD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10880" y="2370240"/>
            <a:ext cx="729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JECT CONTENT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me climatic z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d, temperate, w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itude. Include a world map of these are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ic condition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, precipitation, season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or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una (imag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AD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(presentations start this da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 21st we will work about it in the computers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789360"/>
            <a:ext cx="77724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-mail the project to:</a:t>
            </a:r>
            <a:br>
              <a:rPr sz="4000"/>
            </a:br>
            <a:r>
              <a:rPr b="0" lang="en-US" sz="4000" spc="-1" strike="noStrike" u="sng">
                <a:solidFill>
                  <a:srgbClr val="3333ff"/>
                </a:solidFill>
                <a:uFillTx/>
                <a:latin typeface="Comic Sans MS"/>
                <a:hlinkClick r:id="rId1"/>
              </a:rPr>
              <a:t>eva.profe.naturales@gmail.co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I will upload it to the English department Wiki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2:56:09Z</dcterms:created>
  <dc:creator>Rafa</dc:creator>
  <dc:description/>
  <dc:language>en-US</dc:language>
  <cp:lastModifiedBy>Eva</cp:lastModifiedBy>
  <dcterms:modified xsi:type="dcterms:W3CDTF">2013-02-18T18:10:02Z</dcterms:modified>
  <cp:revision>38</cp:revision>
  <dc:subject/>
  <dc:title>RECURSOS DE LA BIOSFERA</dc:title>
</cp:coreProperties>
</file>